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F19-0DFD-457F-B334-5ECC56E98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6E02-31AE-4E7A-BE11-814A14FB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2153-4A35-4886-BEB0-3E34E0D8A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1E95-B280-42E7-BE14-D63FDE4A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FB8E-7ED5-418D-AA34-204C920C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9B1F-900A-4CE4-92A5-50D4ACC8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FE31-1BA3-4F1F-B02D-4EC4FE14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0123-7545-4D9B-B71A-AD361BB8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D778-879A-4483-A11E-BDBB62096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D49-132A-4F73-8189-0FF3679B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5F1E-C8C0-4FF0-A965-36704CB8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FE7F-834D-4A3E-95D9-1BC266121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A8DA-3B72-4611-9E1C-D6939D4737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" Target="slide9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" Target="slide11.xml"/><Relationship Id="rId8" Type="http://schemas.openxmlformats.org/officeDocument/2006/relationships/slide" Target="slide27.xml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2878200" y="3911760"/>
            <a:ext cx="38178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вторы исследовани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34920" y="4565520"/>
            <a:ext cx="9074160" cy="192276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Крылова Жанна, Соколов Саша, Потанин Илья, Гусева Полина, Михайлова Алена, Кочудаева Наташа, Щебенькова Вика, Селедкова Алина, Шахматова Юля, Савина Таня, Колоскова Женя, Сумин Олег, Зотов Кирил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>
            <a:off x="179280" y="189000"/>
            <a:ext cx="87505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Исследовательская работа</a:t>
            </a:r>
            <a:endParaRPr b="1" i="1" lang="en-US" sz="4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8"/>
          <p:cNvSpPr txBox="1"/>
          <p:nvPr/>
        </p:nvSpPr>
        <p:spPr>
          <a:xfrm>
            <a:off x="171360" y="836640"/>
            <a:ext cx="87915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остая задача или противоречие науки?</a:t>
            </a:r>
            <a:endParaRPr b="1" i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3924360" y="6454800"/>
            <a:ext cx="55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595959"/>
                </a:solidFill>
                <a:latin typeface="Arial"/>
              </a:rPr>
              <a:t>Презентацию выполнил Лёвин Игор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103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7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9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slide(fromLeft)" transition="out">
                                      <p:cBhvr additive="repl">
                                        <p:cTn id="6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WordArt 4"/>
          <p:cNvSpPr txBox="1"/>
          <p:nvPr/>
        </p:nvSpPr>
        <p:spPr>
          <a:xfrm>
            <a:off x="2627280" y="333360"/>
            <a:ext cx="432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сто в природе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250920" y="1773360"/>
            <a:ext cx="7920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ОБЕННОСТИ ЗРИТЕЛЬНОГО ВОСПРИЯТИ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2987640" y="2911320"/>
            <a:ext cx="3600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"/>
              </a:rPr>
              <a:t>Обоняние у мухи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"/>
              <a:ea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4140360" y="3789360"/>
            <a:ext cx="417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"/>
              </a:rPr>
              <a:t>Размножение мухи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"/>
              <a:ea typeface="Arial"/>
            </a:endParaRPr>
          </a:p>
        </p:txBody>
      </p:sp>
      <p:sp>
        <p:nvSpPr>
          <p:cNvPr id="71" name="UTurnArrow">
            <a:hlinkClick r:id="rId1" action="ppaction://hlinksldjump"/>
          </p:cNvPr>
          <p:cNvSpPr/>
          <p:nvPr/>
        </p:nvSpPr>
        <p:spPr>
          <a:xfrm rot="10800000">
            <a:off x="8316720" y="6192720"/>
            <a:ext cx="812520" cy="549360"/>
          </a:xfrm>
          <a:custGeom>
            <a:avLst/>
            <a:gdLst>
              <a:gd name="textAreaLeft" fmla="*/ 0 w 812520"/>
              <a:gd name="textAreaRight" fmla="*/ 209520 w 81252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4"/>
          <p:cNvSpPr txBox="1"/>
          <p:nvPr/>
        </p:nvSpPr>
        <p:spPr>
          <a:xfrm>
            <a:off x="2700360" y="333360"/>
            <a:ext cx="3887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уха в литературе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539640" y="2852640"/>
            <a:ext cx="396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70c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ван Крылов 1769-1844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0070c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WordArt 7"/>
          <p:cNvSpPr txBox="1"/>
          <p:nvPr/>
        </p:nvSpPr>
        <p:spPr>
          <a:xfrm>
            <a:off x="2771640" y="3860640"/>
            <a:ext cx="59770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70c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уха-героиня произведений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0070c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70c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удожественной литературы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0070c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UTurnArrow">
            <a:hlinkClick r:id="rId1" action="ppaction://hlinksldjump"/>
          </p:cNvPr>
          <p:cNvSpPr/>
          <p:nvPr/>
        </p:nvSpPr>
        <p:spPr>
          <a:xfrm rot="10800000">
            <a:off x="8316720" y="6192720"/>
            <a:ext cx="812520" cy="549360"/>
          </a:xfrm>
          <a:custGeom>
            <a:avLst/>
            <a:gdLst>
              <a:gd name="textAreaLeft" fmla="*/ 0 w 812520"/>
              <a:gd name="textAreaRight" fmla="*/ 209520 w 81252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395280" y="189000"/>
            <a:ext cx="84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ши исследования по русскому языку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611280" y="1628640"/>
            <a:ext cx="7991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"/>
              </a:rPr>
              <a:t>Значение слова "муха" в словарях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"/>
              <a:ea typeface="Arial"/>
            </a:endParaRPr>
          </a:p>
        </p:txBody>
      </p:sp>
      <p:sp>
        <p:nvSpPr>
          <p:cNvPr id="78" name="WordArt 8"/>
          <p:cNvSpPr txBox="1"/>
          <p:nvPr/>
        </p:nvSpPr>
        <p:spPr>
          <a:xfrm>
            <a:off x="250920" y="2997360"/>
            <a:ext cx="4314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лковый словарь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WordArt 9"/>
          <p:cNvSpPr txBox="1"/>
          <p:nvPr/>
        </p:nvSpPr>
        <p:spPr>
          <a:xfrm>
            <a:off x="1258920" y="3716280"/>
            <a:ext cx="63151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"/>
              </a:rPr>
              <a:t>Этимологический словарь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"/>
              <a:ea typeface="Arial"/>
            </a:endParaRPr>
          </a:p>
        </p:txBody>
      </p:sp>
      <p:sp>
        <p:nvSpPr>
          <p:cNvPr id="80" name="WordArt 10"/>
          <p:cNvSpPr txBox="1"/>
          <p:nvPr/>
        </p:nvSpPr>
        <p:spPr>
          <a:xfrm>
            <a:off x="2809800" y="4437000"/>
            <a:ext cx="6334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"/>
              </a:rPr>
              <a:t>Фразеологический словарь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"/>
              <a:ea typeface="Arial"/>
            </a:endParaRPr>
          </a:p>
        </p:txBody>
      </p:sp>
      <p:sp>
        <p:nvSpPr>
          <p:cNvPr id="81" name="UTurnArrow">
            <a:hlinkClick r:id="rId1" action="ppaction://hlinksldjump"/>
          </p:cNvPr>
          <p:cNvSpPr/>
          <p:nvPr/>
        </p:nvSpPr>
        <p:spPr>
          <a:xfrm rot="10800000">
            <a:off x="8316720" y="6264360"/>
            <a:ext cx="812520" cy="549360"/>
          </a:xfrm>
          <a:custGeom>
            <a:avLst/>
            <a:gdLst>
              <a:gd name="textAreaLeft" fmla="*/ 0 w 812520"/>
              <a:gd name="textAreaRight" fmla="*/ 209520 w 81252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4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50920" y="3141720"/>
            <a:ext cx="8642160" cy="2288520"/>
          </a:xfrm>
          <a:prstGeom prst="rect">
            <a:avLst/>
          </a:prstGeom>
          <a:solidFill>
            <a:srgbClr val="92d05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МУХА, –и, ж. Общее название широко распространённых двукрылых насекомых. Семейство мух. Комнатные мухи. Муха цец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2124000" y="333360"/>
            <a:ext cx="5472360" cy="808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8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олковый словарь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4" name="AutoShape 7">
            <a:hlinkClick r:id="rId1" action="ppaction://hlinksldjump"/>
          </p:cNvPr>
          <p:cNvSpPr/>
          <p:nvPr/>
        </p:nvSpPr>
        <p:spPr>
          <a:xfrm>
            <a:off x="7524720" y="6237360"/>
            <a:ext cx="719280" cy="620640"/>
          </a:xfrm>
          <a:custGeom>
            <a:avLst/>
            <a:gdLst>
              <a:gd name="textAreaLeft" fmla="*/ 102600 w 719280"/>
              <a:gd name="textAreaRight" fmla="*/ 616680 w 719280"/>
              <a:gd name="textAreaTop" fmla="*/ 354600 h 620640"/>
              <a:gd name="textAreaBottom" fmla="*/ 532080 h 620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UTurnArrow">
            <a:hlinkClick r:id="rId2" action="ppaction://hlinksldjump"/>
          </p:cNvPr>
          <p:cNvSpPr/>
          <p:nvPr/>
        </p:nvSpPr>
        <p:spPr>
          <a:xfrm rot="10800000">
            <a:off x="8316720" y="6192720"/>
            <a:ext cx="812520" cy="549360"/>
          </a:xfrm>
          <a:custGeom>
            <a:avLst/>
            <a:gdLst>
              <a:gd name="textAreaLeft" fmla="*/ 0 w 812520"/>
              <a:gd name="textAreaRight" fmla="*/ 209520 w 81252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258920" y="404640"/>
            <a:ext cx="7058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тимологический словарь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AutoShape 6">
            <a:hlinkClick r:id="rId1" action="ppaction://hlinksldjump"/>
          </p:cNvPr>
          <p:cNvSpPr/>
          <p:nvPr/>
        </p:nvSpPr>
        <p:spPr>
          <a:xfrm>
            <a:off x="7524720" y="6237360"/>
            <a:ext cx="719280" cy="620640"/>
          </a:xfrm>
          <a:custGeom>
            <a:avLst/>
            <a:gdLst>
              <a:gd name="textAreaLeft" fmla="*/ 102600 w 719280"/>
              <a:gd name="textAreaRight" fmla="*/ 616680 w 719280"/>
              <a:gd name="textAreaTop" fmla="*/ 354600 h 620640"/>
              <a:gd name="textAreaBottom" fmla="*/ 532080 h 620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UTurnArrow">
            <a:hlinkClick r:id="rId2" action="ppaction://hlinksldjump"/>
          </p:cNvPr>
          <p:cNvSpPr/>
          <p:nvPr/>
        </p:nvSpPr>
        <p:spPr>
          <a:xfrm rot="10800000">
            <a:off x="8316720" y="6192720"/>
            <a:ext cx="812520" cy="549360"/>
          </a:xfrm>
          <a:custGeom>
            <a:avLst/>
            <a:gdLst>
              <a:gd name="textAreaLeft" fmla="*/ 0 w 812520"/>
              <a:gd name="textAreaRight" fmla="*/ 209520 w 81252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187280" y="333360"/>
            <a:ext cx="684072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Фразеологический словарь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AutoShape 6">
            <a:hlinkClick r:id="rId1" action="ppaction://hlinksldjump"/>
          </p:cNvPr>
          <p:cNvSpPr/>
          <p:nvPr/>
        </p:nvSpPr>
        <p:spPr>
          <a:xfrm>
            <a:off x="7524720" y="6237360"/>
            <a:ext cx="719280" cy="620640"/>
          </a:xfrm>
          <a:custGeom>
            <a:avLst/>
            <a:gdLst>
              <a:gd name="textAreaLeft" fmla="*/ 102600 w 719280"/>
              <a:gd name="textAreaRight" fmla="*/ 616680 w 719280"/>
              <a:gd name="textAreaTop" fmla="*/ 354600 h 620640"/>
              <a:gd name="textAreaBottom" fmla="*/ 532080 h 620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UTurnArrow">
            <a:hlinkClick r:id="rId2" action="ppaction://hlinksldjump"/>
          </p:cNvPr>
          <p:cNvSpPr/>
          <p:nvPr/>
        </p:nvSpPr>
        <p:spPr>
          <a:xfrm rot="10800000">
            <a:off x="8316720" y="6192720"/>
            <a:ext cx="812520" cy="549360"/>
          </a:xfrm>
          <a:custGeom>
            <a:avLst/>
            <a:gdLst>
              <a:gd name="textAreaLeft" fmla="*/ 0 w 812520"/>
              <a:gd name="textAreaRight" fmla="*/ 209520 w 81252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1484280"/>
            <a:ext cx="9144000" cy="4480920"/>
          </a:xfrm>
          <a:prstGeom prst="rect">
            <a:avLst/>
          </a:prstGeom>
          <a:solidFill>
            <a:srgbClr val="92d05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Как сонная м. кто–н. (вял и сонлив; разг. неодобр.). Из мухи слона делать (перен.: сильно преувеличивать что–н.; неодобр.). Какая тебя м. укусила? (что с тобой происходит, почему ты сердит, недоволен?; разг.). Мухи не обидит кто–н. (о кротком, незлобивом человеке; разг.). Мухи дохнут или мрут (перен.: о невыносимой скуке; разг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WordArt 10"/>
          <p:cNvSpPr txBox="1"/>
          <p:nvPr/>
        </p:nvSpPr>
        <p:spPr>
          <a:xfrm>
            <a:off x="324000" y="6093000"/>
            <a:ext cx="698472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"/>
              </a:rPr>
              <a:t>Шагословы: Из мухи слона делать 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0" y="3040920"/>
            <a:ext cx="9144000" cy="3141360"/>
          </a:xfrm>
          <a:prstGeom prst="rect">
            <a:avLst/>
          </a:prstGeom>
          <a:solidFill>
            <a:srgbClr val="92d05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Каждый раз заменяйте одну букву так, чтобы получалось новое слово, которое будет вас приближать к конечному результа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7"/>
          <p:cNvSpPr txBox="1"/>
          <p:nvPr/>
        </p:nvSpPr>
        <p:spPr>
          <a:xfrm>
            <a:off x="324000" y="333360"/>
            <a:ext cx="864072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Шагословы: Из мухи слона делать 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6" name="AutoShape 8">
            <a:hlinkClick r:id="rId1" action="ppaction://hlinksldjump"/>
          </p:cNvPr>
          <p:cNvSpPr/>
          <p:nvPr/>
        </p:nvSpPr>
        <p:spPr>
          <a:xfrm>
            <a:off x="7524720" y="6237360"/>
            <a:ext cx="719280" cy="620640"/>
          </a:xfrm>
          <a:custGeom>
            <a:avLst/>
            <a:gdLst>
              <a:gd name="textAreaLeft" fmla="*/ 102600 w 719280"/>
              <a:gd name="textAreaRight" fmla="*/ 616680 w 719280"/>
              <a:gd name="textAreaTop" fmla="*/ 354600 h 620640"/>
              <a:gd name="textAreaBottom" fmla="*/ 532080 h 620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UTurnArrow">
            <a:hlinkClick r:id="rId2" action="ppaction://hlinksldjump"/>
          </p:cNvPr>
          <p:cNvSpPr/>
          <p:nvPr/>
        </p:nvSpPr>
        <p:spPr>
          <a:xfrm rot="10800000">
            <a:off x="8316720" y="6192720"/>
            <a:ext cx="812520" cy="549360"/>
          </a:xfrm>
          <a:custGeom>
            <a:avLst/>
            <a:gdLst>
              <a:gd name="textAreaLeft" fmla="*/ 0 w 812520"/>
              <a:gd name="textAreaRight" fmla="*/ 209520 w 81252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4004640"/>
            <a:ext cx="9144000" cy="2531880"/>
          </a:xfrm>
          <a:prstGeom prst="rect">
            <a:avLst/>
          </a:prstGeom>
          <a:solidFill>
            <a:srgbClr val="92d05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МУХА - муpа - туpа - таpа - каpа - каpе - кафе - кафp - каюp - каюк - кpюк - уpюк - уpок - сpок - сток - стон - СЛО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>
            <a:hlinkClick r:id="rId1" action="ppaction://hlinksldjump"/>
          </p:cNvPr>
          <p:cNvSpPr/>
          <p:nvPr/>
        </p:nvSpPr>
        <p:spPr>
          <a:xfrm>
            <a:off x="7524720" y="6237360"/>
            <a:ext cx="719280" cy="620640"/>
          </a:xfrm>
          <a:custGeom>
            <a:avLst/>
            <a:gdLst>
              <a:gd name="textAreaLeft" fmla="*/ 102600 w 719280"/>
              <a:gd name="textAreaRight" fmla="*/ 616680 w 719280"/>
              <a:gd name="textAreaTop" fmla="*/ 354600 h 620640"/>
              <a:gd name="textAreaBottom" fmla="*/ 532080 h 620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UTurnArrow">
            <a:hlinkClick r:id="rId2" action="ppaction://hlinksldjump"/>
          </p:cNvPr>
          <p:cNvSpPr/>
          <p:nvPr/>
        </p:nvSpPr>
        <p:spPr>
          <a:xfrm rot="10800000">
            <a:off x="8316720" y="6192720"/>
            <a:ext cx="812520" cy="549360"/>
          </a:xfrm>
          <a:custGeom>
            <a:avLst/>
            <a:gdLst>
              <a:gd name="textAreaLeft" fmla="*/ 0 w 812520"/>
              <a:gd name="textAreaRight" fmla="*/ 209520 w 81252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4"/>
          <p:cNvSpPr txBox="1"/>
          <p:nvPr/>
        </p:nvSpPr>
        <p:spPr>
          <a:xfrm>
            <a:off x="971640" y="404640"/>
            <a:ext cx="75150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ши исследования по математике</a:t>
            </a:r>
            <a:endParaRPr b="1" i="1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889200" y="4148280"/>
            <a:ext cx="7308360" cy="2533320"/>
          </a:xfrm>
          <a:prstGeom prst="rect">
            <a:avLst/>
          </a:prstGeom>
          <a:solidFill>
            <a:srgbClr val="92d05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42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Решить криптограм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42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1)МУХА+ УХА + ХА + А = ХYYY (Миллениум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2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2)Из мухи слона дел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42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МУХА + МУХА = СЛ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42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МУХА + МУХА + МУХА = СЛ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42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МУХА + МУХА + МУХА+ МУХА = СЛ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42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…………………………………………………………………</a:t>
            </a: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228600"/>
                <a:tab algn="l" pos="42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  <a:ea typeface="Arial"/>
              </a:rPr>
              <a:t>МУХА + МУХА +….+ МУХА+ МУХА = СЛОН        (9 мух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UTurnArrow">
            <a:hlinkClick r:id="rId1" action="ppaction://hlinksldjump"/>
          </p:cNvPr>
          <p:cNvSpPr/>
          <p:nvPr/>
        </p:nvSpPr>
        <p:spPr>
          <a:xfrm rot="10800000">
            <a:off x="8316720" y="6192720"/>
            <a:ext cx="812520" cy="549360"/>
          </a:xfrm>
          <a:custGeom>
            <a:avLst/>
            <a:gdLst>
              <a:gd name="textAreaLeft" fmla="*/ 0 w 812520"/>
              <a:gd name="textAreaRight" fmla="*/ 209520 w 81252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55640" y="3744720"/>
            <a:ext cx="7416720" cy="2447640"/>
          </a:xfrm>
          <a:prstGeom prst="rect">
            <a:avLst/>
          </a:prstGeom>
          <a:solidFill>
            <a:srgbClr val="92d050">
              <a:alpha val="7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Arial"/>
              </a:rPr>
              <a:t>Чрезвычайно быстро размножаются. Многие мухи вредят человеку. Мухи -  вредители сельскохозяйственных растений. Многочисленны ограниченноядные насекомые, к которым относят шведскую муху, зеленоглазку, гессенскую муху, хлебного жука кузьку и многих других, питающихся исключительно злаковыми растениями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7"/>
          <p:cNvSpPr txBox="1"/>
          <p:nvPr/>
        </p:nvSpPr>
        <p:spPr>
          <a:xfrm>
            <a:off x="2195640" y="404640"/>
            <a:ext cx="55432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змножение мухи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06" name="AutoShape 9">
            <a:hlinkClick r:id="rId1" action="ppaction://hlinksldjump"/>
          </p:cNvPr>
          <p:cNvSpPr/>
          <p:nvPr/>
        </p:nvSpPr>
        <p:spPr>
          <a:xfrm>
            <a:off x="7524720" y="6237360"/>
            <a:ext cx="719280" cy="620640"/>
          </a:xfrm>
          <a:custGeom>
            <a:avLst/>
            <a:gdLst>
              <a:gd name="textAreaLeft" fmla="*/ 102600 w 719280"/>
              <a:gd name="textAreaRight" fmla="*/ 616680 w 719280"/>
              <a:gd name="textAreaTop" fmla="*/ 354600 h 620640"/>
              <a:gd name="textAreaBottom" fmla="*/ 532080 h 620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UTurnArrow">
            <a:hlinkClick r:id="rId2" action="ppaction://hlinksldjump"/>
          </p:cNvPr>
          <p:cNvSpPr/>
          <p:nvPr/>
        </p:nvSpPr>
        <p:spPr>
          <a:xfrm rot="10800000">
            <a:off x="8316720" y="6192720"/>
            <a:ext cx="812520" cy="549360"/>
          </a:xfrm>
          <a:custGeom>
            <a:avLst/>
            <a:gdLst>
              <a:gd name="textAreaLeft" fmla="*/ 0 w 812520"/>
              <a:gd name="textAreaRight" fmla="*/ 209520 w 81252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Задача «Беспокойная мух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17320"/>
            <a:ext cx="8229600" cy="4708440"/>
          </a:xfrm>
          <a:prstGeom prst="rect">
            <a:avLst/>
          </a:prstGeom>
          <a:solidFill>
            <a:srgbClr val="99cc00">
              <a:alpha val="79000"/>
            </a:srgbClr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автомагистрали Москва - Симферополь два спортсмена одновременно начали тренировочный велопробег навстречу друг другу. В тот момент, когда между велосипедистами осталось всего 300 км, пробегом очень заинтересовалась муха. Слетев с плеча одного велосипедиста и опережая его, она помчалась навстречу другому. Встретив второго велосипедиста и убедившись, что все благополучно, она немедленно повернула обратно. Долетела муха до первого спортсмена и опять повернула ко втор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она и летала между сближавшимися велосипедистами до тех пор, пока велосипедисты не встретились. Тогда муха успокоилась и села одному из  них на но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ха летала между велосипедистами со скоростью 100 км в час, а велосипедисты все это время ехали со скоростью 50 км в час. Сколько километров пролетела мух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Insect02"/>
          <p:cNvPicPr/>
          <p:nvPr/>
        </p:nvPicPr>
        <p:blipFill>
          <a:blip r:embed="rId1"/>
          <a:stretch/>
        </p:blipFill>
        <p:spPr>
          <a:xfrm>
            <a:off x="0" y="2278080"/>
            <a:ext cx="9144000" cy="4579920"/>
          </a:xfrm>
          <a:prstGeom prst="rect">
            <a:avLst/>
          </a:prstGeom>
          <a:ln w="0">
            <a:noFill/>
          </a:ln>
        </p:spPr>
      </p:pic>
      <p:sp>
        <p:nvSpPr>
          <p:cNvPr id="109" name="WordArt 5"/>
          <p:cNvSpPr txBox="1"/>
          <p:nvPr/>
        </p:nvSpPr>
        <p:spPr>
          <a:xfrm>
            <a:off x="2195640" y="260280"/>
            <a:ext cx="48258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ханика полета</a:t>
            </a:r>
            <a:endParaRPr b="1" i="1" lang="en-US" sz="44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AutoShape 8">
            <a:hlinkClick r:id="rId2" action="ppaction://hlinksldjump"/>
          </p:cNvPr>
          <p:cNvSpPr/>
          <p:nvPr/>
        </p:nvSpPr>
        <p:spPr>
          <a:xfrm>
            <a:off x="7740720" y="6381720"/>
            <a:ext cx="431640" cy="405000"/>
          </a:xfrm>
          <a:custGeom>
            <a:avLst/>
            <a:gdLst>
              <a:gd name="textAreaLeft" fmla="*/ 0 w 431640"/>
              <a:gd name="textAreaRight" fmla="*/ 370080 w 431640"/>
              <a:gd name="textAreaTop" fmla="*/ 270000 h 405000"/>
              <a:gd name="textAreaBottom" fmla="*/ 405360 h 4050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UTurnArrow">
            <a:hlinkClick r:id="rId3" action="ppaction://hlinksldjump"/>
          </p:cNvPr>
          <p:cNvSpPr/>
          <p:nvPr/>
        </p:nvSpPr>
        <p:spPr>
          <a:xfrm rot="10800000">
            <a:off x="8316720" y="6192720"/>
            <a:ext cx="812520" cy="549360"/>
          </a:xfrm>
          <a:custGeom>
            <a:avLst/>
            <a:gdLst>
              <a:gd name="textAreaLeft" fmla="*/ 0 w 812520"/>
              <a:gd name="textAreaRight" fmla="*/ 209520 w 81252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-МиГ-29К"/>
          <p:cNvPicPr/>
          <p:nvPr/>
        </p:nvPicPr>
        <p:blipFill>
          <a:blip r:embed="rId1"/>
          <a:stretch/>
        </p:blipFill>
        <p:spPr>
          <a:xfrm>
            <a:off x="15840" y="3398760"/>
            <a:ext cx="4395960" cy="28130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Су-33(или Су-27К)"/>
          <p:cNvPicPr/>
          <p:nvPr/>
        </p:nvPicPr>
        <p:blipFill>
          <a:blip r:embed="rId2"/>
          <a:stretch/>
        </p:blipFill>
        <p:spPr>
          <a:xfrm>
            <a:off x="4710240" y="3417840"/>
            <a:ext cx="4403520" cy="2817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-Су-33(или Су-27К)"/>
          <p:cNvPicPr/>
          <p:nvPr/>
        </p:nvPicPr>
        <p:blipFill>
          <a:blip r:embed="rId3"/>
          <a:stretch/>
        </p:blipFill>
        <p:spPr>
          <a:xfrm>
            <a:off x="2411280" y="333360"/>
            <a:ext cx="4400640" cy="28209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8">
            <a:hlinkClick r:id="rId4" action="ppaction://hlinksldjump"/>
          </p:cNvPr>
          <p:cNvSpPr/>
          <p:nvPr/>
        </p:nvSpPr>
        <p:spPr>
          <a:xfrm>
            <a:off x="7812000" y="6369120"/>
            <a:ext cx="432000" cy="404640"/>
          </a:xfrm>
          <a:custGeom>
            <a:avLst/>
            <a:gdLst>
              <a:gd name="textAreaLeft" fmla="*/ 0 w 432000"/>
              <a:gd name="textAreaRight" fmla="*/ 370440 w 432000"/>
              <a:gd name="textAreaTop" fmla="*/ 270000 h 404640"/>
              <a:gd name="textAreaBottom" fmla="*/ 405000 h 404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UTurnArrow">
            <a:hlinkClick r:id="rId5" action="ppaction://hlinksldjump"/>
          </p:cNvPr>
          <p:cNvSpPr/>
          <p:nvPr/>
        </p:nvSpPr>
        <p:spPr>
          <a:xfrm rot="10800000">
            <a:off x="8388000" y="6211800"/>
            <a:ext cx="469800" cy="549360"/>
          </a:xfrm>
          <a:custGeom>
            <a:avLst/>
            <a:gdLst>
              <a:gd name="textAreaLeft" fmla="*/ 0 w 469800"/>
              <a:gd name="textAreaRight" fmla="*/ 121320 w 46980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WordArt 5"/>
          <p:cNvSpPr txBox="1"/>
          <p:nvPr/>
        </p:nvSpPr>
        <p:spPr>
          <a:xfrm>
            <a:off x="179280" y="549360"/>
            <a:ext cx="7921800" cy="94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Муха - героиня произведения 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художественной литературы</a:t>
            </a:r>
            <a:endParaRPr b="0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pic>
        <p:nvPicPr>
          <p:cNvPr id="118" name="Picture 10" descr="i"/>
          <p:cNvPicPr/>
          <p:nvPr/>
        </p:nvPicPr>
        <p:blipFill>
          <a:blip r:embed="rId1"/>
          <a:stretch/>
        </p:blipFill>
        <p:spPr>
          <a:xfrm>
            <a:off x="4643280" y="1844640"/>
            <a:ext cx="1791000" cy="2666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i"/>
          <p:cNvPicPr/>
          <p:nvPr/>
        </p:nvPicPr>
        <p:blipFill>
          <a:blip r:embed="rId2"/>
          <a:stretch/>
        </p:blipFill>
        <p:spPr>
          <a:xfrm>
            <a:off x="1619280" y="4508640"/>
            <a:ext cx="1509840" cy="2349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1000542575"/>
          <p:cNvPicPr/>
          <p:nvPr/>
        </p:nvPicPr>
        <p:blipFill>
          <a:blip r:embed="rId3"/>
          <a:stretch/>
        </p:blipFill>
        <p:spPr>
          <a:xfrm>
            <a:off x="6012000" y="4437000"/>
            <a:ext cx="1552320" cy="2421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i"/>
          <p:cNvPicPr/>
          <p:nvPr/>
        </p:nvPicPr>
        <p:blipFill>
          <a:blip r:embed="rId4"/>
          <a:stretch/>
        </p:blipFill>
        <p:spPr>
          <a:xfrm>
            <a:off x="3203640" y="4508640"/>
            <a:ext cx="1449360" cy="2349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12"/>
          <p:cNvSpPr/>
          <p:nvPr/>
        </p:nvSpPr>
        <p:spPr>
          <a:xfrm>
            <a:off x="0" y="-518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-75960" y="-7704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5" descr="i"/>
          <p:cNvPicPr/>
          <p:nvPr/>
        </p:nvPicPr>
        <p:blipFill>
          <a:blip r:embed="rId5"/>
          <a:stretch/>
        </p:blipFill>
        <p:spPr>
          <a:xfrm>
            <a:off x="4716360" y="4508640"/>
            <a:ext cx="1338480" cy="2349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6" descr="big"/>
          <p:cNvPicPr/>
          <p:nvPr/>
        </p:nvPicPr>
        <p:blipFill>
          <a:blip r:embed="rId6"/>
          <a:stretch/>
        </p:blipFill>
        <p:spPr>
          <a:xfrm>
            <a:off x="2701800" y="1916280"/>
            <a:ext cx="1940040" cy="256824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8">
            <a:hlinkClick r:id="rId7" action="ppaction://hlinksldjump"/>
          </p:cNvPr>
          <p:cNvSpPr/>
          <p:nvPr/>
        </p:nvSpPr>
        <p:spPr>
          <a:xfrm>
            <a:off x="7596360" y="6237360"/>
            <a:ext cx="718920" cy="620640"/>
          </a:xfrm>
          <a:custGeom>
            <a:avLst/>
            <a:gdLst>
              <a:gd name="textAreaLeft" fmla="*/ 102600 w 718920"/>
              <a:gd name="textAreaRight" fmla="*/ 616320 w 718920"/>
              <a:gd name="textAreaTop" fmla="*/ 354600 h 620640"/>
              <a:gd name="textAreaBottom" fmla="*/ 532080 h 620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UTurnArrow">
            <a:hlinkClick r:id="rId8" action="ppaction://hlinksldjump"/>
          </p:cNvPr>
          <p:cNvSpPr/>
          <p:nvPr/>
        </p:nvSpPr>
        <p:spPr>
          <a:xfrm rot="10800000">
            <a:off x="8316720" y="6192720"/>
            <a:ext cx="812520" cy="549360"/>
          </a:xfrm>
          <a:custGeom>
            <a:avLst/>
            <a:gdLst>
              <a:gd name="textAreaLeft" fmla="*/ 0 w 812520"/>
              <a:gd name="textAreaRight" fmla="*/ 209520 w 81252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0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6303600" y="4291920"/>
            <a:ext cx="256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уха и Пч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252360" y="4364640"/>
            <a:ext cx="29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уха и Доро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9"/>
          <p:cNvSpPr txBox="1"/>
          <p:nvPr/>
        </p:nvSpPr>
        <p:spPr>
          <a:xfrm>
            <a:off x="3203640" y="333360"/>
            <a:ext cx="2808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ван Крылов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769-1844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Picture 10" descr="post-64-1113640942"/>
          <p:cNvPicPr/>
          <p:nvPr/>
        </p:nvPicPr>
        <p:blipFill>
          <a:blip r:embed="rId1"/>
          <a:stretch/>
        </p:blipFill>
        <p:spPr>
          <a:xfrm>
            <a:off x="3276720" y="2781360"/>
            <a:ext cx="2997000" cy="3627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honeybee-on-flower"/>
          <p:cNvPicPr/>
          <p:nvPr/>
        </p:nvPicPr>
        <p:blipFill>
          <a:blip r:embed="rId2"/>
          <a:stretch/>
        </p:blipFill>
        <p:spPr>
          <a:xfrm>
            <a:off x="7740720" y="4869000"/>
            <a:ext cx="1209600" cy="1209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w3000000"/>
          <p:cNvPicPr/>
          <p:nvPr/>
        </p:nvPicPr>
        <p:blipFill>
          <a:blip r:embed="rId3"/>
          <a:stretch/>
        </p:blipFill>
        <p:spPr>
          <a:xfrm>
            <a:off x="6372360" y="3429000"/>
            <a:ext cx="1368360" cy="917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w3000000"/>
          <p:cNvPicPr/>
          <p:nvPr/>
        </p:nvPicPr>
        <p:blipFill>
          <a:blip r:embed="rId4"/>
          <a:stretch/>
        </p:blipFill>
        <p:spPr>
          <a:xfrm>
            <a:off x="0" y="3357720"/>
            <a:ext cx="1368360" cy="91728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6"/>
          <p:cNvSpPr/>
          <p:nvPr/>
        </p:nvSpPr>
        <p:spPr>
          <a:xfrm>
            <a:off x="7524720" y="6237360"/>
            <a:ext cx="719280" cy="620640"/>
          </a:xfrm>
          <a:custGeom>
            <a:avLst/>
            <a:gdLst>
              <a:gd name="textAreaLeft" fmla="*/ 102600 w 719280"/>
              <a:gd name="textAreaRight" fmla="*/ 616680 w 719280"/>
              <a:gd name="textAreaTop" fmla="*/ 354600 h 620640"/>
              <a:gd name="textAreaBottom" fmla="*/ 532080 h 620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UTurnArrow"/>
          <p:cNvSpPr/>
          <p:nvPr/>
        </p:nvSpPr>
        <p:spPr>
          <a:xfrm rot="10800000">
            <a:off x="8316720" y="6192720"/>
            <a:ext cx="812520" cy="549360"/>
          </a:xfrm>
          <a:custGeom>
            <a:avLst/>
            <a:gdLst>
              <a:gd name="textAreaLeft" fmla="*/ 0 w 812520"/>
              <a:gd name="textAreaRight" fmla="*/ 209520 w 81252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WordArt 4"/>
          <p:cNvSpPr txBox="1"/>
          <p:nvPr/>
        </p:nvSpPr>
        <p:spPr>
          <a:xfrm>
            <a:off x="684360" y="333360"/>
            <a:ext cx="813564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ОБЕННОСТИ ЗРИТЕЛЬНОГО ВОСПРИЯТИ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179280" y="2519280"/>
            <a:ext cx="8856720" cy="3751560"/>
          </a:xfrm>
          <a:prstGeom prst="rect">
            <a:avLst/>
          </a:prstGeom>
          <a:solidFill>
            <a:srgbClr val="92d05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Комнатная муха не различает красные и фиолетовые тона. Любимым ее цветом считается желтый, а голубая и зеленая окраска у нее вызывает раздраж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Почему же муха одни цвета воспринимает, а другие нет? Оказывается, ее нервные волокна, сложными путями достигающие мозга, раздражаются не самими лучами, составляющими определенный цвет. Лучи сначала разрушают зрительный пигмент, а уже продукт этого разруш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7524720" y="6237360"/>
            <a:ext cx="719280" cy="620640"/>
          </a:xfrm>
          <a:custGeom>
            <a:avLst/>
            <a:gdLst>
              <a:gd name="textAreaLeft" fmla="*/ 102600 w 719280"/>
              <a:gd name="textAreaRight" fmla="*/ 616680 w 719280"/>
              <a:gd name="textAreaTop" fmla="*/ 354600 h 620640"/>
              <a:gd name="textAreaBottom" fmla="*/ 532080 h 620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UTurnArrow"/>
          <p:cNvSpPr/>
          <p:nvPr/>
        </p:nvSpPr>
        <p:spPr>
          <a:xfrm rot="10800000">
            <a:off x="8316720" y="6192720"/>
            <a:ext cx="812520" cy="549360"/>
          </a:xfrm>
          <a:custGeom>
            <a:avLst/>
            <a:gdLst>
              <a:gd name="textAreaLeft" fmla="*/ 0 w 812520"/>
              <a:gd name="textAreaRight" fmla="*/ 209520 w 81252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2700360" y="476280"/>
            <a:ext cx="4103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боняние у мухи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95280" y="3289320"/>
            <a:ext cx="8497800" cy="2654280"/>
          </a:xfrm>
          <a:prstGeom prst="rect">
            <a:avLst/>
          </a:prstGeom>
          <a:solidFill>
            <a:srgbClr val="92d05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Человек о вкусе судит на основании показаний языка, а муха в тех же целях использует ноги. Их, кстати, не 8, как утверждал великий древний грек Аристотель, а всего 6, но зато какие! Они не только носят муху во время пеших прогулок по любой поверхности, но и используются для других дел, не менее важных, чем передви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8"/>
          <p:cNvSpPr/>
          <p:nvPr/>
        </p:nvSpPr>
        <p:spPr>
          <a:xfrm>
            <a:off x="7524720" y="6237360"/>
            <a:ext cx="719280" cy="620640"/>
          </a:xfrm>
          <a:custGeom>
            <a:avLst/>
            <a:gdLst>
              <a:gd name="textAreaLeft" fmla="*/ 102600 w 719280"/>
              <a:gd name="textAreaRight" fmla="*/ 616680 w 719280"/>
              <a:gd name="textAreaTop" fmla="*/ 354600 h 620640"/>
              <a:gd name="textAreaBottom" fmla="*/ 532080 h 6206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UTurnArrow"/>
          <p:cNvSpPr/>
          <p:nvPr/>
        </p:nvSpPr>
        <p:spPr>
          <a:xfrm rot="10800000">
            <a:off x="8316720" y="6192720"/>
            <a:ext cx="812520" cy="549360"/>
          </a:xfrm>
          <a:custGeom>
            <a:avLst/>
            <a:gdLst>
              <a:gd name="textAreaLeft" fmla="*/ 0 w 812520"/>
              <a:gd name="textAreaRight" fmla="*/ 209520 w 81252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0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WordArt 4"/>
          <p:cNvSpPr txBox="1"/>
          <p:nvPr/>
        </p:nvSpPr>
        <p:spPr>
          <a:xfrm>
            <a:off x="250920" y="404640"/>
            <a:ext cx="8620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комендуемые (учителем) ресурсы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57320" y="2997360"/>
            <a:ext cx="8713800" cy="3080160"/>
          </a:xfrm>
          <a:prstGeom prst="rect">
            <a:avLst/>
          </a:prstGeom>
          <a:solidFill>
            <a:srgbClr val="92d05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Энциклопедический словарь по би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Словари: толковый, этимологический, фразеологическ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Басни Крыло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Занимательная математик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Arial"/>
              </a:rPr>
              <a:t>Большая энциклопедия «Кирилл и Мефодий» на электронном носите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712800" y="333360"/>
            <a:ext cx="8089920" cy="86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 исследовательской работы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0" y="1407960"/>
            <a:ext cx="9144000" cy="6310440"/>
          </a:xfrm>
          <a:prstGeom prst="rect">
            <a:avLst/>
          </a:prstGeom>
          <a:solidFill>
            <a:srgbClr val="92d05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Изучение рекомендованной литерату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ассмотреть и обобщить все написанное о предмете исследования – м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истоки проблемы), а именно: изучение по биологии, физике, химии, литературе, русскому языку, математи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Составление плана работы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040"/>
                </a:solidFill>
                <a:latin typeface="Arial"/>
              </a:rPr>
              <a:t>Что такое муха? (группа биологии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)</a:t>
            </a: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такое муха? (группа физики и хим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такое муха? (группа литературы) Что такое муха? (группа русского язы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такое муха? (группа математи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 Исследование и  разработка проек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0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77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2" dur="770" fill="hold"/>
                                        <p:tgtEl>
                                          <p:spTgt spid="1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4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6" dur="77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WordArt 4"/>
          <p:cNvSpPr txBox="1"/>
          <p:nvPr/>
        </p:nvSpPr>
        <p:spPr>
          <a:xfrm>
            <a:off x="395280" y="333360"/>
            <a:ext cx="85694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езультаты исследовани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179280" y="4221360"/>
            <a:ext cx="8713800" cy="2288520"/>
          </a:xfrm>
          <a:prstGeom prst="rect">
            <a:avLst/>
          </a:prstGeom>
          <a:solidFill>
            <a:srgbClr val="92d05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2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В процессе исследования оказалось, что мухи действительно развивают скорости  в среднем до 100 км в 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nodeType="clickEffect" fill="hold">
                      <p:stCondLst>
                        <p:cond delay="0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276720" y="333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ыводы 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250920" y="3933000"/>
            <a:ext cx="8712000" cy="2531880"/>
          </a:xfrm>
          <a:prstGeom prst="rect">
            <a:avLst/>
          </a:prstGeom>
          <a:solidFill>
            <a:srgbClr val="92d05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2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Беспокойная муха – не простая задача, это  действительный факт биологии и не является противоречием  нау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71640" y="333360"/>
            <a:ext cx="7488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ипотеза исследовани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900000" y="3624120"/>
            <a:ext cx="7561440" cy="2104920"/>
          </a:xfrm>
          <a:prstGeom prst="rect">
            <a:avLst/>
          </a:prstGeom>
          <a:solidFill>
            <a:srgbClr val="92d05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Мы сомневаемся, что муха может лететь с такой скорость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9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2195640" y="260280"/>
            <a:ext cx="4752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Из мухи делать слона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159" name="WordArt 5"/>
          <p:cNvSpPr txBox="1"/>
          <p:nvPr/>
        </p:nvSpPr>
        <p:spPr>
          <a:xfrm>
            <a:off x="3995640" y="3429000"/>
            <a:ext cx="115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"/>
              </a:rPr>
              <a:t>Цель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"/>
              <a:ea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0" y="4076640"/>
            <a:ext cx="9144000" cy="1191240"/>
          </a:xfrm>
          <a:prstGeom prst="rect">
            <a:avLst/>
          </a:prstGeom>
          <a:solidFill>
            <a:srgbClr val="92d05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70c0"/>
                </a:solidFill>
                <a:latin typeface="Arial"/>
              </a:rPr>
              <a:t>Решить шагословы и криптограммы со словом м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31d07"/>
                </a:solidFill>
                <a:latin typeface="Arial"/>
              </a:rPr>
              <a:t>Скорость 100 км/ч </a:t>
            </a:r>
            <a:br>
              <a:rPr sz="4400"/>
            </a:br>
            <a:r>
              <a:rPr b="1" lang="ru-RU" sz="4400" spc="-1" strike="noStrike">
                <a:solidFill>
                  <a:srgbClr val="f31d07"/>
                </a:solidFill>
                <a:latin typeface="Arial"/>
              </a:rPr>
              <a:t>не для мухи!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714320"/>
            <a:ext cx="8229600" cy="46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ие скорости в природ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корость движения торнадо велика, иногда она достигает 100 км/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мый быстрый бегун среди наземных животных — гепард. Этот удивительный хищник может за несколько секунд развить скорость до 100 км/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104292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ель исследовани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0920" y="3002760"/>
            <a:ext cx="8569080" cy="1922400"/>
          </a:xfrm>
          <a:prstGeom prst="rect">
            <a:avLst/>
          </a:prstGeom>
          <a:solidFill>
            <a:srgbClr val="92d050">
              <a:alpha val="7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269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70c0"/>
                </a:solidFill>
                <a:latin typeface="Arial"/>
              </a:rPr>
              <a:t>Выяснить, нет ли в задаче: «Беспокойная муха» преувеличений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99cc00">
              <a:alpha val="79000"/>
            </a:srgbClr>
          </a:solidFill>
          <a:ln w="0">
            <a:noFill/>
          </a:ln>
        </p:spPr>
        <p:txBody>
          <a:bodyPr anchor="t">
            <a:normAutofit/>
          </a:bodyPr>
          <a:p>
            <a:pPr lvl="3" marL="125244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ить рекомендованную литературу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2440" indent="-261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смотреть и обобщить все написанное о мухе (истоки пробле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учение материалов о м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биологи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зи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тератур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усскому язы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темати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Задачи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solidFill>
            <a:srgbClr val="92d050">
              <a:alpha val="7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писать различные виды этих  насекомых; установить, какие условия необходимы для существования мухи; выявить значение мухи в жизни челове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ассмотреть полет мухи с точки зрения механик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йти произведения в художественной литературе, где создан образ мухи. Дать характеристику мухе как герою произве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йти в толковом словаре значение слова «муха», в этимологическом словаре историю создания этого слова, в фразеологическом словаре выписать фразеологизмы со словом «мух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оздать или найти и решить другие математические  задачи про мух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6"/>
          <p:cNvSpPr txBox="1"/>
          <p:nvPr/>
        </p:nvSpPr>
        <p:spPr>
          <a:xfrm>
            <a:off x="250920" y="3213000"/>
            <a:ext cx="8620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"/>
              </a:rPr>
              <a:t>Рекомендуемые (учителем) ресурсы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"/>
              <a:ea typeface="Arial"/>
            </a:endParaRPr>
          </a:p>
        </p:txBody>
      </p:sp>
      <p:sp>
        <p:nvSpPr>
          <p:cNvPr id="59" name="WordArt 9"/>
          <p:cNvSpPr txBox="1"/>
          <p:nvPr/>
        </p:nvSpPr>
        <p:spPr>
          <a:xfrm>
            <a:off x="539640" y="2276640"/>
            <a:ext cx="7991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 исследовательской работы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0" name="WordArt 10"/>
          <p:cNvSpPr txBox="1"/>
          <p:nvPr/>
        </p:nvSpPr>
        <p:spPr>
          <a:xfrm>
            <a:off x="1258920" y="4005360"/>
            <a:ext cx="6458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"/>
              </a:rPr>
              <a:t>Результаты исследования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"/>
              <a:ea typeface="Arial"/>
            </a:endParaRPr>
          </a:p>
        </p:txBody>
      </p:sp>
      <p:sp>
        <p:nvSpPr>
          <p:cNvPr id="61" name="WordArt 11"/>
          <p:cNvSpPr txBox="1"/>
          <p:nvPr/>
        </p:nvSpPr>
        <p:spPr>
          <a:xfrm>
            <a:off x="3635280" y="4869000"/>
            <a:ext cx="1866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"/>
              </a:rPr>
              <a:t>Выводы 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"/>
              <a:ea typeface="Arial"/>
            </a:endParaRPr>
          </a:p>
        </p:txBody>
      </p:sp>
      <p:sp>
        <p:nvSpPr>
          <p:cNvPr id="62" name="WordArt 13"/>
          <p:cNvSpPr txBox="1"/>
          <p:nvPr/>
        </p:nvSpPr>
        <p:spPr>
          <a:xfrm>
            <a:off x="2627280" y="189000"/>
            <a:ext cx="42498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держание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916360" y="333360"/>
            <a:ext cx="3743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ка мухи</a:t>
            </a:r>
            <a:endParaRPr b="1" i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" name="WordArt 5"/>
          <p:cNvSpPr txBox="1"/>
          <p:nvPr/>
        </p:nvSpPr>
        <p:spPr>
          <a:xfrm>
            <a:off x="250920" y="2708280"/>
            <a:ext cx="849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"/>
              </a:rPr>
              <a:t>Поразительный дизайн полета мухи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"/>
              <a:ea typeface="Arial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1547640" y="4149720"/>
            <a:ext cx="604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latin typeface="Arial"/>
              </a:rPr>
              <a:t>Механика полета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latin typeface="Arial"/>
              <a:ea typeface="Arial"/>
            </a:endParaRPr>
          </a:p>
        </p:txBody>
      </p:sp>
      <p:sp>
        <p:nvSpPr>
          <p:cNvPr id="66" name="UTurnArrow">
            <a:hlinkClick r:id="rId1" action="ppaction://hlinksldjump"/>
          </p:cNvPr>
          <p:cNvSpPr/>
          <p:nvPr/>
        </p:nvSpPr>
        <p:spPr>
          <a:xfrm rot="10800000">
            <a:off x="8316720" y="6192720"/>
            <a:ext cx="812520" cy="549360"/>
          </a:xfrm>
          <a:custGeom>
            <a:avLst/>
            <a:gdLst>
              <a:gd name="textAreaLeft" fmla="*/ 0 w 812520"/>
              <a:gd name="textAreaRight" fmla="*/ 209520 w 812520"/>
              <a:gd name="textAreaTop" fmla="*/ 211320 h 549360"/>
              <a:gd name="textAreaBottom" fmla="*/ 549720 h 549360"/>
            </a:gdLst>
            <a:ahLst/>
            <a:rect l="textAreaLeft" t="textAreaTop" r="textAreaRight" b="textAreaBottom"/>
            <a:pathLst>
              <a:path w="21600" h="21600">
                <a:moveTo>
                  <a:pt x="15663" y="14865"/>
                </a:moveTo>
                <a:lnTo>
                  <a:pt x="21600" y="8826"/>
                </a:lnTo>
                <a:lnTo>
                  <a:pt x="18450" y="8826"/>
                </a:lnTo>
                <a:lnTo>
                  <a:pt x="18450" y="8310"/>
                </a:lnTo>
                <a:cubicBezTo>
                  <a:pt x="18450" y="3721"/>
                  <a:pt x="14320" y="0"/>
                  <a:pt x="9225" y="0"/>
                </a:cubicBezTo>
                <a:cubicBezTo>
                  <a:pt x="4130" y="0"/>
                  <a:pt x="0" y="3799"/>
                  <a:pt x="0" y="8485"/>
                </a:cubicBezTo>
                <a:lnTo>
                  <a:pt x="0" y="21600"/>
                </a:lnTo>
                <a:lnTo>
                  <a:pt x="5574" y="21600"/>
                </a:lnTo>
                <a:lnTo>
                  <a:pt x="5574" y="8310"/>
                </a:lnTo>
                <a:cubicBezTo>
                  <a:pt x="5574" y="6664"/>
                  <a:pt x="7055" y="5330"/>
                  <a:pt x="8882" y="5330"/>
                </a:cubicBezTo>
                <a:lnTo>
                  <a:pt x="9568" y="5330"/>
                </a:lnTo>
                <a:cubicBezTo>
                  <a:pt x="11395" y="5330"/>
                  <a:pt x="12876" y="6664"/>
                  <a:pt x="12876" y="8310"/>
                </a:cubicBezTo>
                <a:lnTo>
                  <a:pt x="12876" y="8826"/>
                </a:lnTo>
                <a:lnTo>
                  <a:pt x="9725" y="8826"/>
                </a:lnTo>
                <a:lnTo>
                  <a:pt x="15663" y="14865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5:08:13Z</dcterms:created>
  <dc:creator>FuckYouBill</dc:creator>
  <dc:description/>
  <dc:language>en-US</dc:language>
  <cp:lastModifiedBy>AndreyK</cp:lastModifiedBy>
  <dcterms:modified xsi:type="dcterms:W3CDTF">2017-04-08T14:54:46Z</dcterms:modified>
  <cp:revision>41</cp:revision>
  <dc:subject/>
  <dc:title>Слайд 1</dc:title>
</cp:coreProperties>
</file>