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2.jpeg" ContentType="image/jpeg"/>
  <Override PartName="/ppt/media/image13.png" ContentType="image/png"/>
  <Override PartName="/ppt/media/image10.png" ContentType="image/png"/>
  <Override PartName="/ppt/media/image6.jpeg" ContentType="image/jpeg"/>
  <Override PartName="/ppt/media/image8.jpeg" ContentType="image/jpeg"/>
  <Override PartName="/ppt/media/image19.wmf" ContentType="image/x-wmf"/>
  <Override PartName="/ppt/media/image1.wmf" ContentType="image/x-wmf"/>
  <Override PartName="/ppt/media/image17.wmf" ContentType="image/x-wmf"/>
  <Override PartName="/ppt/media/image16.wmf" ContentType="image/x-wmf"/>
  <Override PartName="/ppt/media/image2.png" ContentType="image/png"/>
  <Override PartName="/ppt/media/image4.jpeg" ContentType="image/jpeg"/>
  <Override PartName="/ppt/media/image14.png" ContentType="image/png"/>
  <Override PartName="/ppt/media/image3.png" ContentType="image/png"/>
  <Override PartName="/ppt/media/image18.wmf" ContentType="image/x-wmf"/>
  <Override PartName="/ppt/media/image5.jpeg" ContentType="image/jpeg"/>
  <Override PartName="/ppt/media/image9.jpeg" ContentType="image/jpeg"/>
  <Override PartName="/ppt/media/image11.jpeg" ContentType="image/jpeg"/>
  <Override PartName="/ppt/media/image7.png" ContentType="image/png"/>
  <Override PartName="/ppt/media/image1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BE052-EF4A-4823-A5AD-F32135DB465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89676-0F85-44CA-9F09-55C865FAB5D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авыпапсмвпс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82A204-5B34-4577-BBCE-FAF6655B0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89C31B-EE42-4DCA-94CE-06BCD929C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361323-BA43-4E16-9503-1CDDE6AB5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769229-8E23-4839-A5A9-2751B3EE1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E5F30-0913-479A-88F0-47632FBEE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21693-A441-4259-A32A-0242C42CA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8899C-0928-41AD-9E49-9ABE42009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76BF2-B9C6-4E32-BC94-0E83F9080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CB7A2-8A8A-4889-88F2-B69B21D9E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864DB-710B-4A8A-BEFE-0C69C2BA3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E037B-49E7-479B-B3E2-B08F08666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5E3612-6BE0-46CC-B447-F6E7BC153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CE0A4-CF33-462C-BEDB-7E7657F03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98BBF-B2D9-4FB7-9383-9227CC157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C9230-1B9F-4FF6-A137-EB474812B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873AE-AF61-4578-81CE-31D458618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6FE82-A4B2-48C9-A70D-AC31D56B3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C72CF5-C58F-4A63-B74F-6CF284C6F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9466EF-E808-4AA6-8067-05C0157F9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57CBC6-4B84-4D19-992C-56239F4BB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2CFE08-4264-41D8-8C0D-123657DFA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AD9C93-1BAD-4754-963A-72583D672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F35F56-655D-44F8-9ECF-45EF86B2B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6044A9-C1A1-4CC5-94BC-9FBDC5FB7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B5319-199F-4E90-90C9-0851769FB6E7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83737-F097-4580-9EA6-396CE321F1C2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Приложение  теории граф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2971800" y="4724280"/>
            <a:ext cx="6019920" cy="18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Киселёв Андрей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МОУ СОШ №1, 11а клас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г. Кулебаки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0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раф на кодиров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4" descr=""/>
          <p:cNvPicPr/>
          <p:nvPr/>
        </p:nvPicPr>
        <p:blipFill>
          <a:blip r:embed="rId1"/>
          <a:stretch/>
        </p:blipFill>
        <p:spPr>
          <a:xfrm>
            <a:off x="1547640" y="1392120"/>
            <a:ext cx="5486400" cy="513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рграф автомата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4" descr=""/>
          <p:cNvPicPr/>
          <p:nvPr/>
        </p:nvPicPr>
        <p:blipFill>
          <a:blip r:embed="rId1"/>
          <a:stretch/>
        </p:blipFill>
        <p:spPr>
          <a:xfrm>
            <a:off x="468360" y="1628640"/>
            <a:ext cx="8242200" cy="456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4"/>
          <p:cNvSpPr/>
          <p:nvPr/>
        </p:nvSpPr>
        <p:spPr>
          <a:xfrm>
            <a:off x="302400" y="2075040"/>
            <a:ext cx="84301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дача №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 время поездки к знакомым в г. Москву из Кулебак, мы проехал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 ч на автобусе, 5 часов на поезде, 30 минут на легково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втомобиле (на такси). Скорость автобуса была 40 км/ч, скор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езда вдвое больше скорости автобуса, а скорость легковог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втомобиля  на 10 км/ч больше, чем скорость поезда. Какой путь м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делали от г. Кулебаки до г. Москв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5"/>
          <p:cNvSpPr/>
          <p:nvPr/>
        </p:nvSpPr>
        <p:spPr>
          <a:xfrm>
            <a:off x="0" y="1262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Object 4"/>
          <p:cNvGraphicFramePr/>
          <p:nvPr/>
        </p:nvGraphicFramePr>
        <p:xfrm>
          <a:off x="2843280" y="981000"/>
          <a:ext cx="4686120" cy="433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43280" y="981000"/>
                    <a:ext cx="4686120" cy="433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Rectangle 6"/>
          <p:cNvSpPr/>
          <p:nvPr/>
        </p:nvSpPr>
        <p:spPr>
          <a:xfrm>
            <a:off x="2529720" y="5399640"/>
            <a:ext cx="43488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i="1" lang="ru-RU" sz="9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υ</a:t>
            </a:r>
            <a:r>
              <a:rPr b="0" i="1" lang="ru-RU" sz="9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υ</a:t>
            </a:r>
            <a:r>
              <a:rPr b="0" i="1" lang="ru-RU" sz="9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i="1" lang="ru-RU" sz="9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i="1" lang="ru-RU" sz="9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i="1" lang="ru-RU" sz="9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i="1" lang="ru-RU" sz="9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i="1" lang="ru-RU" sz="9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i="1" lang="ru-RU" sz="9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Ответ: 475 к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6" name="Object 5"/>
          <p:cNvGraphicFramePr/>
          <p:nvPr/>
        </p:nvGraphicFramePr>
        <p:xfrm>
          <a:off x="2484360" y="3860640"/>
          <a:ext cx="4162680" cy="50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84360" y="3860640"/>
                    <a:ext cx="4162680" cy="5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48" name="Object 4"/>
              <p:cNvSpPr txBox="1"/>
              <p:nvPr/>
            </p:nvSpPr>
            <p:spPr>
              <a:xfrm>
                <a:off x="3157560" y="4694400"/>
                <a:ext cx="2854440" cy="83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84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9" name="Rectangle 6"/>
          <p:cNvSpPr/>
          <p:nvPr/>
        </p:nvSpPr>
        <p:spPr>
          <a:xfrm>
            <a:off x="21240" y="1276920"/>
            <a:ext cx="91051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дача №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Слово «КУЛЕБАКИ» разделено на отдельные буквы, из них произвольны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образом отбирается и выкладывается по порядку четыре буквы. Каков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вероятность получения слова «БАКУ»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8"/>
          <p:cNvSpPr/>
          <p:nvPr/>
        </p:nvSpPr>
        <p:spPr>
          <a:xfrm>
            <a:off x="-2753280" y="440892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4"/>
          <p:cNvSpPr/>
          <p:nvPr/>
        </p:nvSpPr>
        <p:spPr>
          <a:xfrm>
            <a:off x="595800" y="981720"/>
            <a:ext cx="7965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дача №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д поверхностью воды выступает часть льдин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ъем надводной части равен 120 м. Каков объем всей льдины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5"/>
          <p:cNvSpPr/>
          <p:nvPr/>
        </p:nvSpPr>
        <p:spPr>
          <a:xfrm>
            <a:off x="5003640" y="1916280"/>
            <a:ext cx="277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3" name="Object 8"/>
          <p:cNvGraphicFramePr/>
          <p:nvPr/>
        </p:nvGraphicFramePr>
        <p:xfrm>
          <a:off x="3176640" y="2708280"/>
          <a:ext cx="3267000" cy="197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76640" y="2708280"/>
                    <a:ext cx="3267000" cy="197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55" name="Object 7"/>
              <p:cNvSpPr txBox="1"/>
              <p:nvPr/>
            </p:nvSpPr>
            <p:spPr>
              <a:xfrm>
                <a:off x="887400" y="3586320"/>
                <a:ext cx="1490760" cy="272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V</m:t>
                            </m:r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П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н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f>
                              <m:num>
                                <m:r>
                                  <m:t xml:space="preserve">F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ρ</m:t>
                                    </m:r>
                                  </m:e>
                                  <m:sub>
                                    <m:r>
                                      <m:t xml:space="preserve">B</m:t>
                                    </m:r>
                                  </m:sub>
                                </m:sSub>
                                <m:r>
                                  <m:t xml:space="preserve">⋅</m:t>
                                </m:r>
                                <m:r>
                                  <m:t xml:space="preserve">g</m:t>
                                </m:r>
                              </m:den>
                            </m:f>
                            <m:r>
                              <m:t xml:space="preserve">,</m:t>
                            </m:r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F</m:t>
                            </m:r>
                            <m:r>
                              <m:t xml:space="preserve">=</m:t>
                            </m:r>
                            <m:r>
                              <m:t xml:space="preserve">P</m:t>
                            </m:r>
                            <m:r>
                              <m:t xml:space="preserve">,</m:t>
                            </m:r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P</m:t>
                            </m:r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g</m:t>
                            </m:r>
                            <m:r>
                              <m:t xml:space="preserve">,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Object 6"/>
              <p:cNvSpPr txBox="1"/>
              <p:nvPr/>
            </p:nvSpPr>
            <p:spPr>
              <a:xfrm>
                <a:off x="3924360" y="5383080"/>
                <a:ext cx="1871640" cy="92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Л</m:t>
                            </m:r>
                          </m:sub>
                        </m:sSub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7" name="Rectangle 9"/>
          <p:cNvSpPr/>
          <p:nvPr/>
        </p:nvSpPr>
        <p:spPr>
          <a:xfrm>
            <a:off x="0" y="1139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10"/>
          <p:cNvSpPr/>
          <p:nvPr/>
        </p:nvSpPr>
        <p:spPr>
          <a:xfrm>
            <a:off x="0" y="3111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11"/>
          <p:cNvSpPr/>
          <p:nvPr/>
        </p:nvSpPr>
        <p:spPr>
          <a:xfrm>
            <a:off x="2478960" y="4671000"/>
            <a:ext cx="559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ая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истему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получаем ответ на вопрос задач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4"/>
          <p:cNvSpPr/>
          <p:nvPr/>
        </p:nvSpPr>
        <p:spPr>
          <a:xfrm>
            <a:off x="1323720" y="475200"/>
            <a:ext cx="6552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дача №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 короткий срок изготовить модель самолета МиГ-3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1"/>
          <p:cNvSpPr/>
          <p:nvPr/>
        </p:nvSpPr>
        <p:spPr>
          <a:xfrm>
            <a:off x="0" y="73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28"/>
          <p:cNvSpPr/>
          <p:nvPr/>
        </p:nvSpPr>
        <p:spPr>
          <a:xfrm>
            <a:off x="0" y="73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2627280" y="1484280"/>
          <a:ext cx="3816360" cy="5318280"/>
        </p:xfrm>
        <a:graphic>
          <a:graphicData uri="http://schemas.openxmlformats.org/drawingml/2006/table">
            <a:tbl>
              <a:tblPr/>
              <a:tblGrid>
                <a:gridCol w="577800"/>
                <a:gridCol w="3238560"/>
              </a:tblGrid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ечень работ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бор модели для изготовления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-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евод деталей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-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резание деталей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-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0072368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готовление рёбер жесткост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-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0072368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дание деталям нужной формы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-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0072368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готовление каркаса (скелета) модел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-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0072368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леивание обшивки самолет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-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0072368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готовление пушек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-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клеивание пушек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-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0072368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готовление стоек шасс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-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0072368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епеж шасси к самолету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-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0072368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готовление кабины и фонаря самолет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-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0072368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клеивание кабины и фонаря самолет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-1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0072368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паклевка самолет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-1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0072368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ончательная покраска самолет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-1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00723680"/>
                          <a:tab algn="l" pos="10083816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несение опознавательных знаков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5"/>
          <p:cNvSpPr/>
          <p:nvPr/>
        </p:nvSpPr>
        <p:spPr>
          <a:xfrm>
            <a:off x="0" y="246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Object 4"/>
          <p:cNvGraphicFramePr/>
          <p:nvPr/>
        </p:nvGraphicFramePr>
        <p:xfrm>
          <a:off x="1150920" y="793800"/>
          <a:ext cx="7308720" cy="335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50920" y="793800"/>
                    <a:ext cx="7308720" cy="335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7" name="Rectangle 6"/>
          <p:cNvSpPr/>
          <p:nvPr/>
        </p:nvSpPr>
        <p:spPr>
          <a:xfrm>
            <a:off x="611280" y="4220640"/>
            <a:ext cx="756108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ребрах графа указаны числа – продолжительность в часа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ответствующей работы. Помеченные вершины от 0 до 12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траченные работ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7"/>
          <p:cNvSpPr/>
          <p:nvPr/>
        </p:nvSpPr>
        <p:spPr>
          <a:xfrm>
            <a:off x="1316880" y="5660280"/>
            <a:ext cx="673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вет: Наименьшее время изготовления модели 197,8 час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2"/>
          <p:cNvSpPr/>
          <p:nvPr/>
        </p:nvSpPr>
        <p:spPr>
          <a:xfrm>
            <a:off x="1323720" y="475200"/>
            <a:ext cx="6552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дача №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 короткий срок изготовить модель самолета МиГ-3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3"/>
          <p:cNvSpPr/>
          <p:nvPr/>
        </p:nvSpPr>
        <p:spPr>
          <a:xfrm>
            <a:off x="0" y="73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4"/>
          <p:cNvSpPr/>
          <p:nvPr/>
        </p:nvSpPr>
        <p:spPr>
          <a:xfrm>
            <a:off x="0" y="73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2627280" y="1484280"/>
          <a:ext cx="3816360" cy="5318280"/>
        </p:xfrm>
        <a:graphic>
          <a:graphicData uri="http://schemas.openxmlformats.org/drawingml/2006/table">
            <a:tbl>
              <a:tblPr/>
              <a:tblGrid>
                <a:gridCol w="577800"/>
                <a:gridCol w="3238560"/>
              </a:tblGrid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ечень работ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бор модели для изготовления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-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евод деталей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-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резание деталей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-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0072368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готовление рёбер жесткост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-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0072368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дание деталям нужной формы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-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0072368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готовление каркаса (скелета) модел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-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0072368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леивание обшивки самолет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-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0072368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готовление пушек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-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клеивание пушек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-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0072368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готовление стоек шасс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-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0072368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епеж шасси к самолету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-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0072368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готовление кабины и фонаря самолет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-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0072368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клеивание кабины и фонаря самолет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-1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0072368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паклевка самолет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-1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0072368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ончательная покраска самолет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-1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00723680"/>
                          <a:tab algn="l" pos="10083816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несение опознавательных знаков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4" descr=""/>
          <p:cNvPicPr/>
          <p:nvPr/>
        </p:nvPicPr>
        <p:blipFill>
          <a:blip r:embed="rId1"/>
          <a:stretch/>
        </p:blipFill>
        <p:spPr>
          <a:xfrm>
            <a:off x="1476360" y="817560"/>
            <a:ext cx="6408720" cy="46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95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ложение теории граф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3640" y="2566800"/>
            <a:ext cx="5327640" cy="223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рафом называется всякая система линий, (прямолинейных отрезков) соединяющих между собой точки некоторой заданной системы точек. Эти точки называются вершинами графа, а отрезки – рёбрами граф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Object 4"/>
          <p:cNvGraphicFramePr/>
          <p:nvPr/>
        </p:nvGraphicFramePr>
        <p:xfrm>
          <a:off x="6300720" y="2535120"/>
          <a:ext cx="1847880" cy="234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00720" y="2535120"/>
                    <a:ext cx="1847880" cy="234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ывод: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пользование граф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971280" y="2565000"/>
            <a:ext cx="771516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скоряет решение практических зада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прощает расче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вышает производительность научной, инженерной и конструкторской мыс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рта железных доро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7" descr=""/>
          <p:cNvPicPr/>
          <p:nvPr/>
        </p:nvPicPr>
        <p:blipFill>
          <a:blip r:embed="rId1"/>
          <a:stretch/>
        </p:blipFill>
        <p:spPr>
          <a:xfrm>
            <a:off x="2268360" y="1268280"/>
            <a:ext cx="4619880" cy="518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395280" y="620640"/>
            <a:ext cx="8229600" cy="186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лан улиц горо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18" descr=""/>
          <p:cNvPicPr/>
          <p:nvPr/>
        </p:nvPicPr>
        <p:blipFill>
          <a:blip r:embed="rId1"/>
          <a:stretch/>
        </p:blipFill>
        <p:spPr>
          <a:xfrm>
            <a:off x="1692360" y="1268280"/>
            <a:ext cx="5472000" cy="524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95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лан водопроводной се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17" descr="План завода"/>
          <p:cNvPicPr/>
          <p:nvPr/>
        </p:nvPicPr>
        <p:blipFill>
          <a:blip r:embed="rId1"/>
          <a:stretch/>
        </p:blipFill>
        <p:spPr>
          <a:xfrm>
            <a:off x="468360" y="2543040"/>
            <a:ext cx="5834160" cy="42595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8" descr="1"/>
          <p:cNvPicPr/>
          <p:nvPr/>
        </p:nvPicPr>
        <p:blipFill>
          <a:blip r:embed="rId2"/>
          <a:stretch/>
        </p:blipFill>
        <p:spPr>
          <a:xfrm>
            <a:off x="6156360" y="2494080"/>
            <a:ext cx="2590920" cy="187164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20"/>
          <p:cNvSpPr/>
          <p:nvPr/>
        </p:nvSpPr>
        <p:spPr>
          <a:xfrm>
            <a:off x="826920" y="1510920"/>
            <a:ext cx="763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на ребрах (линиях) графа отметить стрелками направление движения воды, получится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направленный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ли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ориентированный граф (орграф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53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аксимальное значение потока  в сети ули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64" descr="2"/>
          <p:cNvPicPr/>
          <p:nvPr/>
        </p:nvPicPr>
        <p:blipFill>
          <a:blip r:embed="rId1"/>
          <a:stretch/>
        </p:blipFill>
        <p:spPr>
          <a:xfrm>
            <a:off x="179280" y="2565360"/>
            <a:ext cx="4176720" cy="32576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66" descr=""/>
          <p:cNvPicPr/>
          <p:nvPr/>
        </p:nvPicPr>
        <p:blipFill>
          <a:blip r:embed="rId2"/>
          <a:stretch/>
        </p:blipFill>
        <p:spPr>
          <a:xfrm>
            <a:off x="4500720" y="2544840"/>
            <a:ext cx="4464000" cy="32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95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Шахматный мат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6" descr="3"/>
          <p:cNvPicPr/>
          <p:nvPr/>
        </p:nvPicPr>
        <p:blipFill>
          <a:blip r:embed="rId1"/>
          <a:stretch/>
        </p:blipFill>
        <p:spPr>
          <a:xfrm>
            <a:off x="395280" y="2565360"/>
            <a:ext cx="3314880" cy="12859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7" descr="4"/>
          <p:cNvPicPr/>
          <p:nvPr/>
        </p:nvPicPr>
        <p:blipFill>
          <a:blip r:embed="rId2"/>
          <a:stretch/>
        </p:blipFill>
        <p:spPr>
          <a:xfrm>
            <a:off x="395280" y="4076640"/>
            <a:ext cx="4319640" cy="16304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9" descr=""/>
          <p:cNvPicPr/>
          <p:nvPr/>
        </p:nvPicPr>
        <p:blipFill>
          <a:blip r:embed="rId3"/>
          <a:stretch/>
        </p:blipFill>
        <p:spPr>
          <a:xfrm>
            <a:off x="4067280" y="2205000"/>
            <a:ext cx="4838760" cy="16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5" descr="9"/>
          <p:cNvPicPr/>
          <p:nvPr/>
        </p:nvPicPr>
        <p:blipFill>
          <a:blip r:embed="rId1"/>
          <a:stretch/>
        </p:blipFill>
        <p:spPr>
          <a:xfrm>
            <a:off x="574560" y="1413000"/>
            <a:ext cx="7885080" cy="43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7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дностороннее движ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4" descr="5"/>
          <p:cNvPicPr/>
          <p:nvPr/>
        </p:nvPicPr>
        <p:blipFill>
          <a:blip r:embed="rId1"/>
          <a:stretch/>
        </p:blipFill>
        <p:spPr>
          <a:xfrm>
            <a:off x="2340000" y="2084400"/>
            <a:ext cx="4319640" cy="37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4T18:07:16Z</dcterms:created>
  <dc:creator>K211</dc:creator>
  <dc:description/>
  <dc:language>en-US</dc:language>
  <cp:lastModifiedBy>AndreyK</cp:lastModifiedBy>
  <dcterms:modified xsi:type="dcterms:W3CDTF">2017-04-08T12:54:50Z</dcterms:modified>
  <cp:revision>66</cp:revision>
  <dc:subject/>
  <dc:title>Приложения теории графов</dc:title>
</cp:coreProperties>
</file>