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bomb.wav" ContentType="audio/x-wav"/>
  <Override PartName="/ppt/media/wind.wav" ContentType="audio/x-wav"/>
  <Override PartName="/ppt/media/drumroll.wav" ContentType="audio/x-wav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C91-3740-4E8C-852C-4BBACB68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B357-2A0D-428C-87A0-7D72A428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8862-8807-4CD0-86B7-F8517070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1A56-A791-45D3-83E2-BCCE1803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6D5C-5C1B-4ADD-AAD5-0680315F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23B8-DDAD-4934-988B-C8F0421D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6274-1C59-4922-B793-477664A3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E78D-6E26-4E8A-8933-1A1ADFE3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80B0-216B-4DAB-A654-E12EB2DC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8FC3-FA16-4604-BF79-35F25C79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CDCC-9142-4738-8B22-1796EC0D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661-E293-471B-8332-195F41C9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497C-502B-4681-846F-BA3CEDFE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26A1-E601-4A64-85AB-7D0D13EF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085C-C9F9-4215-B416-AE040188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0574-830A-486E-AB30-E2B5E605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D86E-3D58-4E67-A16C-FEF7222B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F65F-49D8-444E-B448-92CF4801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A221-C2BF-43CD-A26C-E9E9ABB4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94CE-7BE9-42F3-893E-2646DCDF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5D00-F0F6-4766-872A-1E3B4CD1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6F6-4255-4A09-8F88-89319388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CC3-8426-4CC3-9B84-754230F9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5A4-F06F-475F-8AEC-E513A7A8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D267-96DC-4108-861C-C5926853AD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DDC1-8CA0-4728-9072-CF5A61C5C9F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audio" Target="../media/drumroll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omb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omb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6697800" cy="404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Showcard Gothic"/>
              </a:rPr>
              <a:t>Исследовательская  работа по математике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5878440" y="5805360"/>
            <a:ext cx="32400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Unicode MS"/>
              </a:rPr>
              <a:t>Выполнил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Unicode MS"/>
              </a:rPr>
              <a:t>Мигунова Настя - ученица 5в клас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Unicode MS"/>
              </a:rPr>
              <a:t>Руководитель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Unicode MS"/>
              </a:rPr>
              <a:t>Киселева Т.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1120680" y="2997360"/>
            <a:ext cx="726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99"/>
                </a:solidFill>
                <a:latin typeface="Cooper Black"/>
              </a:rPr>
              <a:t>Интересные случаи сложения и умножения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1" name="bomb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7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33"/>
                </a:solidFill>
                <a:latin typeface="Arial"/>
              </a:rPr>
              <a:t>Умножение четырёхзначного числа на 1111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6"/>
              <p:cNvSpPr txBox="1"/>
              <p:nvPr/>
            </p:nvSpPr>
            <p:spPr>
              <a:xfrm>
                <a:off x="324000" y="1413000"/>
                <a:ext cx="609588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9" name=""/>
          <p:cNvSpPr txBox="1"/>
          <p:nvPr/>
        </p:nvSpPr>
        <p:spPr>
          <a:xfrm>
            <a:off x="610920" y="1413000"/>
            <a:ext cx="80643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1111×1111 = 12343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1234×1111 = 137097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1" name="bomb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33"/>
                </a:solidFill>
                <a:latin typeface="Arial"/>
              </a:rPr>
              <a:t>Парад чисел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1×1 =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11×11 = 121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111×111 = 12321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1111×1111 = 1234321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11111×11111 = 123454321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111111×111111= 12345654321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1111111×1111111= 123456765432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11111111×11111111= 123456787654321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111111111×111111111 = 12345678987654321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1" name="bomb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3588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33"/>
                </a:solidFill>
                <a:latin typeface="Arial"/>
              </a:rPr>
              <a:t>А вот просто красивые примеры на умножение: 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35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Tahoma"/>
              </a:rPr>
              <a:t>12345679 × 8 = 9876543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Tahoma"/>
              </a:rPr>
              <a:t>12345679 × 9 = 11111111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1" name="bomb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33"/>
                </a:solidFill>
                <a:latin typeface="Arial"/>
              </a:rPr>
              <a:t>Занимательное умноже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700360" y="1555200"/>
            <a:ext cx="460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1×9+2= 11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12×9+3=111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123×9+4=1111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1234×9+5=11111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12345×9+6=111111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123456×9+7=111111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1" name="bomb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907640" y="1484280"/>
            <a:ext cx="583092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б)9×9+7=88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98×9+6=888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987×9+5=8888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9876×9+4=88888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98765×9+3=888888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987654×9+2=8888888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9876543×9+1=88888888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98765432×9+0=888888888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33"/>
                </a:solidFill>
                <a:latin typeface="Arial"/>
              </a:rPr>
              <a:t>Занимательное умноже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bomb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47280" y="1382400"/>
            <a:ext cx="56898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Все девять значащих цифр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12×483 = 579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42×138 = 579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48×159 = 7632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18×297 = 534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28×157 = 439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27×198 = 534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4×1738 = 695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39×186 =725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4×1963 = 785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124640" y="316620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027080" y="289476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1034280" y="313776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878760" y="260280"/>
            <a:ext cx="702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33"/>
                </a:solidFill>
                <a:latin typeface="Tahoma"/>
              </a:rPr>
              <a:t>Интересные случаи умножения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1" name="bomb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41120" y="3139200"/>
            <a:ext cx="3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0"/>
              <p:cNvSpPr txBox="1"/>
              <p:nvPr/>
            </p:nvSpPr>
            <p:spPr>
              <a:xfrm>
                <a:off x="1231920" y="2271600"/>
                <a:ext cx="66690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26753849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204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12"/>
              <p:cNvSpPr txBox="1"/>
              <p:nvPr/>
            </p:nvSpPr>
            <p:spPr>
              <a:xfrm>
                <a:off x="1463760" y="4111560"/>
                <a:ext cx="63370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814072356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906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8" name="Rectangle 15"/>
          <p:cNvSpPr/>
          <p:nvPr/>
        </p:nvSpPr>
        <p:spPr>
          <a:xfrm>
            <a:off x="1260360" y="475200"/>
            <a:ext cx="6043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Все девять значащих цифр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1" name="bomb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33"/>
                </a:solidFill>
                <a:latin typeface="Arial"/>
              </a:rPr>
              <a:t>4.2. Цифровые совпадения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6826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9 × 9 = 81     18= 9 + 9;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 2 × 47 = 94     49= 2 + 47;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 3 ×24  = 72     27 = 3 + 24;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2 × 497= 994    499  = 2 + 497;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2 × 263 = 526     265  = 2 + 263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1" name="bomb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3588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33"/>
                </a:solidFill>
                <a:latin typeface="Arial"/>
              </a:rPr>
              <a:t>Куда ни читай, а все квадрат получается (да и квадрат-то тоже можно в любую сторону читать)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99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59"/>
          <p:cNvSpPr/>
          <p:nvPr/>
        </p:nvSpPr>
        <p:spPr>
          <a:xfrm>
            <a:off x="1554840" y="313776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763640" y="1916280"/>
          <a:ext cx="5786640" cy="4506840"/>
        </p:xfrm>
        <a:graphic>
          <a:graphicData uri="http://schemas.openxmlformats.org/drawingml/2006/table">
            <a:tbl>
              <a:tblPr/>
              <a:tblGrid>
                <a:gridCol w="2872800"/>
                <a:gridCol w="216000"/>
                <a:gridCol w="2697840"/>
              </a:tblGrid>
              <a:tr h="90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2769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721=311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2544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21=21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4884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841=221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2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468944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98641=2121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2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236544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6321=2111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  <p:sndAc>
      <p:stSnd>
        <p:snd r:embed="rId1" name="bomb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33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33"/>
                </a:solidFill>
                <a:latin typeface="Arial"/>
              </a:rPr>
              <a:t>Задача о десяти цифрах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42920" y="1916280"/>
            <a:ext cx="403236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2 438 195 760;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3 785 942 160;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4 753 869 120;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4 876 391 520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1" name="bom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10880" y="142920"/>
            <a:ext cx="726444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33"/>
                </a:solidFill>
                <a:latin typeface="Cooper Black"/>
              </a:rPr>
              <a:t>Интересные случаи сложения и умножен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227628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99"/>
                </a:solidFill>
                <a:latin typeface="Tahoma"/>
              </a:rPr>
              <a:t>         </a:t>
            </a:r>
            <a:r>
              <a:rPr b="0" i="1" lang="ru-RU" sz="2800" spc="-1" strike="noStrike">
                <a:solidFill>
                  <a:srgbClr val="ffff99"/>
                </a:solidFill>
                <a:latin typeface="Tahoma"/>
              </a:rPr>
              <a:t>Счёт и вычисления - основа порядка в голове.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                                        </a:t>
            </a:r>
            <a:r>
              <a:rPr b="0" i="1" lang="ru-RU" sz="2800" spc="-1" strike="noStrike">
                <a:solidFill>
                  <a:srgbClr val="ffff99"/>
                </a:solidFill>
                <a:latin typeface="Tahoma"/>
              </a:rPr>
              <a:t>( И. Г. Песталоцций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)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3419640" y="3860640"/>
            <a:ext cx="2736720" cy="1925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bomb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33"/>
                </a:solidFill>
                <a:latin typeface="Arial"/>
              </a:rPr>
              <a:t>Числа 567 и 854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65000" y="1700280"/>
            <a:ext cx="37450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567 </a:t>
            </a:r>
            <a:r>
              <a:rPr b="0" lang="ru-RU" sz="20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= 321 489;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854</a:t>
            </a:r>
            <a:r>
              <a:rPr b="0" lang="ru-RU" sz="20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= 729 316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2342160" y="2894760"/>
            <a:ext cx="28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1" name="bomb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33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ff33"/>
                </a:solidFill>
                <a:latin typeface="Arial"/>
              </a:rPr>
              <a:t>Девять цифр до и после знака равенства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32 547 891 х 6 = 195 287 346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94 857 312 х 6 = 569 143 872;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        89 745 321 х 6 = 538 471 926;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        98 745 231 х 6 = 592 471 386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1" name="bomb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33"/>
                </a:solidFill>
                <a:latin typeface="Arial"/>
              </a:rPr>
              <a:t>4.7. Сложение и умножение дает одинаковый результат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16000" y="2133360"/>
            <a:ext cx="7128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1,1 + 11 = 1,1 х 11 = 12,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2 + 2 = 2 х 2 = 4;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6 + 1,2 = 6 х 1,2 = 7,2;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26 + 1,04 = 26 х 1,04 = 27,04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99"/>
                </a:solidFill>
                <a:latin typeface="Tahoma"/>
              </a:rPr>
              <a:t>m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= </a:t>
            </a:r>
            <a:r>
              <a:rPr b="0" i="1" lang="ru-RU" sz="3200" spc="-1" strike="noStrike">
                <a:solidFill>
                  <a:srgbClr val="ffff99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/(</a:t>
            </a:r>
            <a:r>
              <a:rPr b="0" i="1" lang="ru-RU" sz="3200" spc="-1" strike="noStrike">
                <a:solidFill>
                  <a:srgbClr val="ffff99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- 1) = (</a:t>
            </a:r>
            <a:r>
              <a:rPr b="0" i="1" lang="ru-RU" sz="3200" spc="-1" strike="noStrike">
                <a:solidFill>
                  <a:srgbClr val="ffff99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+ 1) + 1/(</a:t>
            </a:r>
            <a:r>
              <a:rPr b="0" i="1" lang="ru-RU" sz="3200" spc="-1" strike="noStrike">
                <a:solidFill>
                  <a:srgbClr val="ffff99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– 1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1" name="bomb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250920" y="375840"/>
            <a:ext cx="791712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33"/>
                </a:solidFill>
                <a:latin typeface="comic"/>
              </a:rPr>
              <a:t>         </a:t>
            </a:r>
            <a:r>
              <a:rPr b="0" lang="ru-RU" sz="4400" spc="-1" strike="noStrike">
                <a:solidFill>
                  <a:srgbClr val="ffff33"/>
                </a:solidFill>
                <a:latin typeface="comic"/>
              </a:rPr>
              <a:t>Вывод</a:t>
            </a:r>
            <a:r>
              <a:rPr b="0" lang="ru-RU" sz="4400" spc="-1" strike="noStrike">
                <a:solidFill>
                  <a:srgbClr val="ffff33"/>
                </a:solidFill>
                <a:latin typeface="Broadway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7956360" cy="20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99"/>
                </a:solidFill>
                <a:latin typeface="Tahoma"/>
              </a:rPr>
              <a:t>Разумеется, хорошая математика красива</a:t>
            </a:r>
            <a:r>
              <a:rPr b="0" i="1" lang="ru-RU" sz="4000" spc="-1" strike="noStrike">
                <a:solidFill>
                  <a:srgbClr val="ffff99"/>
                </a:solidFill>
                <a:latin typeface="Tahoma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99"/>
                </a:solidFill>
                <a:latin typeface="Tahoma"/>
              </a:rPr>
              <a:t>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2340000" y="6922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0980720" y="2421000"/>
          <a:ext cx="3618000" cy="2698560"/>
        </p:xfrm>
        <a:graphic>
          <a:graphicData uri="http://schemas.openxmlformats.org/drawingml/2006/table">
            <a:tbl>
              <a:tblPr/>
              <a:tblGrid>
                <a:gridCol w="3618000"/>
              </a:tblGrid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Rectangle 15"/>
          <p:cNvSpPr/>
          <p:nvPr/>
        </p:nvSpPr>
        <p:spPr>
          <a:xfrm>
            <a:off x="9974160" y="3284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1" name="bomb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умножение"/>
          <p:cNvPicPr/>
          <p:nvPr/>
        </p:nvPicPr>
        <p:blipFill>
          <a:blip r:embed="rId1">
            <a:grayscl/>
          </a:blip>
          <a:srcRect l="3152" t="696" r="3152" b="4103"/>
          <a:stretch/>
        </p:blipFill>
        <p:spPr>
          <a:xfrm>
            <a:off x="2195640" y="1989000"/>
            <a:ext cx="5094000" cy="4283280"/>
          </a:xfrm>
          <a:prstGeom prst="rect">
            <a:avLst/>
          </a:prstGeom>
          <a:ln w="9360">
            <a:solidFill>
              <a:srgbClr val="6d6d6d"/>
            </a:solidFill>
            <a:miter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10880" y="142920"/>
            <a:ext cx="726444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33"/>
                </a:solidFill>
                <a:latin typeface="Cooper Black"/>
              </a:rPr>
              <a:t>Интересные случаи сложения и умножен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bomb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91712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33"/>
                </a:solidFill>
                <a:latin typeface="comic"/>
              </a:rPr>
              <a:t> </a:t>
            </a:r>
            <a:r>
              <a:rPr b="0" lang="ru-RU" sz="4400" spc="-1" strike="noStrike">
                <a:solidFill>
                  <a:srgbClr val="ffff33"/>
                </a:solidFill>
                <a:latin typeface="comic"/>
              </a:rPr>
              <a:t>Проблема</a:t>
            </a:r>
            <a:r>
              <a:rPr b="0" lang="ru-RU" sz="4400" spc="-1" strike="noStrike">
                <a:solidFill>
                  <a:srgbClr val="ffff33"/>
                </a:solidFill>
                <a:latin typeface="Broadway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920" y="2924280"/>
            <a:ext cx="795672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Tahoma"/>
              </a:rPr>
              <a:t>«Разумеется, хорошая математика красива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Tahoma"/>
              </a:rPr>
              <a:t>                                         </a:t>
            </a:r>
            <a:r>
              <a:rPr b="0" i="1" lang="ru-RU" sz="3200" spc="-1" strike="noStrike">
                <a:solidFill>
                  <a:srgbClr val="ffff99"/>
                </a:solidFill>
                <a:latin typeface="Tahoma"/>
              </a:rPr>
              <a:t>(П. Д. Коуэн</a:t>
            </a:r>
            <a:r>
              <a:rPr b="0" i="1" lang="ru-RU" sz="2800" spc="-1" strike="noStrike">
                <a:solidFill>
                  <a:srgbClr val="ffff99"/>
                </a:solidFill>
                <a:latin typeface="Tahoma"/>
              </a:rPr>
              <a:t>)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340000" y="6922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980720" y="2421000"/>
          <a:ext cx="3618000" cy="2698560"/>
        </p:xfrm>
        <a:graphic>
          <a:graphicData uri="http://schemas.openxmlformats.org/drawingml/2006/table">
            <a:tbl>
              <a:tblPr/>
              <a:tblGrid>
                <a:gridCol w="3618000"/>
              </a:tblGrid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Rectangle 62"/>
          <p:cNvSpPr/>
          <p:nvPr/>
        </p:nvSpPr>
        <p:spPr>
          <a:xfrm>
            <a:off x="9974160" y="3284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1" name="bomb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33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ffff99"/>
                </a:solidFill>
                <a:latin typeface="Tahoma"/>
              </a:rPr>
              <a:t>На основании анализа данного выражения утверждаем, что можно найти много примеров, с помощью которых уместно говорить о математике, как о красивой науке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1" name="bomb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33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ffff99"/>
                </a:solidFill>
                <a:latin typeface="Tahoma"/>
              </a:rPr>
              <a:t>Построит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99"/>
                </a:solidFill>
                <a:latin typeface="Tahoma"/>
              </a:rPr>
              <a:t>математическую модель, описывающую красоту действий умножения и сложения. На основе модели этой задачи найти другие похожие задач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1" name="bomb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33"/>
                </a:solidFill>
                <a:latin typeface="Angsana New"/>
              </a:rPr>
              <a:t>Задачи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4760" y="184428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Tahoma"/>
              </a:rPr>
              <a:t>Найти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99"/>
                </a:solidFill>
                <a:latin typeface="Tahoma"/>
              </a:rPr>
              <a:t>примеры на умножение и сложение такие,</a:t>
            </a:r>
            <a:r>
              <a:rPr b="0" i="1" lang="en-US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99"/>
                </a:solidFill>
                <a:latin typeface="Tahoma"/>
              </a:rPr>
              <a:t>что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99"/>
                </a:solidFill>
                <a:latin typeface="Tahoma"/>
              </a:rPr>
              <a:t>в них участвуют  все девять значащих цифр по  одному раз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Tahoma"/>
              </a:rPr>
              <a:t>Найти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99"/>
                </a:solidFill>
                <a:latin typeface="Tahoma"/>
              </a:rPr>
              <a:t>примеры на умножение и сложение такие,</a:t>
            </a:r>
            <a:r>
              <a:rPr b="0" i="1" lang="en-US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99"/>
                </a:solidFill>
                <a:latin typeface="Tahoma"/>
              </a:rPr>
              <a:t>что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99"/>
                </a:solidFill>
                <a:latin typeface="Tahoma"/>
              </a:rPr>
              <a:t>при выполнении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99"/>
                </a:solidFill>
                <a:latin typeface="Tahoma"/>
              </a:rPr>
              <a:t> действий они дают одинаковый результа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Tahoma"/>
              </a:rPr>
              <a:t>Найти красивые примеры на умножение и слож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1" name="bomb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716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54120" y="394920"/>
            <a:ext cx="618984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33"/>
                </a:solidFill>
                <a:latin typeface="Arial"/>
              </a:rPr>
              <a:t>Приёмы устного счё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39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979280" y="2205000"/>
            <a:ext cx="5940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1. 17×11= 1(1+7)7=187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81×11=8(8+1)1=89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2. 28×11=(2+1)08= 308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94×11=(9+1)34=1034</a:t>
            </a: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9680" indent="-229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1" name="bomb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33"/>
                </a:solidFill>
                <a:latin typeface="Arial"/>
              </a:rPr>
              <a:t>Умножение трёхзначных чисел на 111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23640" y="1483920"/>
            <a:ext cx="81356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111×111= 12321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то есть    1(1+1)(1+1+1)(1+1)1=1232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или другой прим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123×111=1(1+2)(1+2+3)(2+3)3=1365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1" name="bomb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1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155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1155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" dur="115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115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6:14:01Z</dcterms:created>
  <dc:creator>Customer</dc:creator>
  <dc:description/>
  <dc:language>en-US</dc:language>
  <cp:lastModifiedBy>AndreyK</cp:lastModifiedBy>
  <dcterms:modified xsi:type="dcterms:W3CDTF">2017-04-08T11:30:58Z</dcterms:modified>
  <cp:revision>32</cp:revision>
  <dc:subject/>
  <dc:title>Исследовательская работа по математике</dc:title>
</cp:coreProperties>
</file>