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6.jpeg" ContentType="image/jpeg"/>
  <Override PartName="/ppt/media/image5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9.png" ContentType="image/png"/>
  <Override PartName="/ppt/media/image40.jpeg" ContentType="image/jpe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35.jpeg" ContentType="image/jpeg"/>
  <Override PartName="/ppt/media/image10.png" ContentType="image/png"/>
  <Override PartName="/ppt/media/image11.png" ContentType="image/png"/>
  <Override PartName="/ppt/media/image2.gif" ContentType="image/gif"/>
  <Override PartName="/ppt/media/image25.png" ContentType="image/png"/>
  <Override PartName="/ppt/media/image19.jpeg" ContentType="image/jpeg"/>
  <Override PartName="/ppt/media/image42.jpeg" ContentType="image/jpeg"/>
  <Override PartName="/ppt/media/image18.wmf" ContentType="image/x-wmf"/>
  <Override PartName="/ppt/media/image20.png" ContentType="image/png"/>
  <Override PartName="/ppt/media/image36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A978-B34A-4969-BB77-BA07D275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FD7-7495-4026-B73F-389C19EC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69CF-EFCC-4650-ADF0-2E39261C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4E55-C1EE-43F1-B0F7-3551FD52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77C8-9E24-43E3-B164-95C857B9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8869-2479-4CCF-8B08-3318B648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7AC9-9357-4FAA-9821-ED993E92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47E0-AA20-4CC3-B77B-DD1BA60A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2205-CC2E-447D-AEB0-773D7755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D927-2716-442C-9F59-1CCC4C09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F8CD-2091-4A11-BD56-65A3C9B9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4D5-C3C3-4381-8F99-877A245A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B38B-24CE-4B3E-A627-4F3B6199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CC68-3F23-4810-8D57-B5CF1391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45BE-2288-471B-9322-5937B040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4B65-53E1-4A6E-8D02-6E6DED2F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9A30-E6B9-45B7-A5FF-D963F0A6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4408-5803-45D3-B74F-5FE828B8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D21C-9E9B-48E4-92E0-294377BC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156B-2A03-476C-B117-BA789973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BC3-1354-4CF9-AF19-424544BA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25D-6573-43C8-8FCE-9E2EC827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AC53-7DBD-4786-8124-3268313B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601C-BCB9-4AD4-81E1-CF975D1C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57D1-61A3-4520-A435-6BE99E9D5C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05E0-25E5-47B1-874F-E7FB0FBD5C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292720" y="5300640"/>
            <a:ext cx="3780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ю подготовила Еремина Кат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ица 11 а класс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У СОШ №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: Киселева Т.С., Учитель математ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1116000" y="2565360"/>
            <a:ext cx="739764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5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066"/>
                </a:solidFill>
                <a:latin typeface="Arial"/>
              </a:rPr>
              <a:t>Применение кривых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e066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066"/>
                </a:solidFill>
                <a:latin typeface="Arial"/>
              </a:rPr>
              <a:t> </a:t>
            </a: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066"/>
                </a:solidFill>
                <a:latin typeface="Arial"/>
              </a:rPr>
              <a:t>второго порядка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e066"/>
              </a:solidFill>
              <a:latin typeface="Arial"/>
              <a:ea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Гипербол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905120" y="129528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Уравнение гипербол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4343400" y="2438280"/>
                <a:ext cx="11430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5" name="Picture 6" descr="http://e-science.sources.ru/img/math/planim/1000901.jpg"/>
          <p:cNvPicPr/>
          <p:nvPr/>
        </p:nvPicPr>
        <p:blipFill>
          <a:blip r:embed="rId1"/>
          <a:stretch/>
        </p:blipFill>
        <p:spPr>
          <a:xfrm>
            <a:off x="5105520" y="4041720"/>
            <a:ext cx="3001680" cy="2335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04920" y="1981080"/>
            <a:ext cx="1828800" cy="1143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График гиперболы Y=1/X в Excel"/>
          <p:cNvPicPr/>
          <p:nvPr/>
        </p:nvPicPr>
        <p:blipFill>
          <a:blip r:embed="rId3"/>
          <a:stretch/>
        </p:blipFill>
        <p:spPr>
          <a:xfrm>
            <a:off x="1042920" y="4041720"/>
            <a:ext cx="2590920" cy="2335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2392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Применение гиперболы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895120" y="1674720"/>
            <a:ext cx="350532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пербола и ее свойства нашли применение в астрономии и физ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728800" y="10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4" descr="Гиперболические траектории"/>
          <p:cNvPicPr/>
          <p:nvPr/>
        </p:nvPicPr>
        <p:blipFill>
          <a:blip r:embed="rId1"/>
          <a:stretch/>
        </p:blipFill>
        <p:spPr>
          <a:xfrm>
            <a:off x="304920" y="380880"/>
            <a:ext cx="2384280" cy="31244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331488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5532480" y="4343400"/>
            <a:ext cx="2354400" cy="16686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9"/>
          <p:cNvSpPr/>
          <p:nvPr/>
        </p:nvSpPr>
        <p:spPr>
          <a:xfrm>
            <a:off x="329076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8" descr=""/>
          <p:cNvPicPr/>
          <p:nvPr/>
        </p:nvPicPr>
        <p:blipFill>
          <a:blip r:embed="rId3"/>
          <a:stretch/>
        </p:blipFill>
        <p:spPr>
          <a:xfrm>
            <a:off x="826920" y="4343400"/>
            <a:ext cx="2376720" cy="1704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http://www.college.ru/enportal/astrolite/content/chapter3/section1/paragraph2/images/03010201.jpg"/>
          <p:cNvPicPr/>
          <p:nvPr/>
        </p:nvPicPr>
        <p:blipFill>
          <a:blip r:embed="rId4"/>
          <a:stretch/>
        </p:blipFill>
        <p:spPr>
          <a:xfrm>
            <a:off x="6299280" y="178596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2"/>
          <p:cNvSpPr/>
          <p:nvPr/>
        </p:nvSpPr>
        <p:spPr>
          <a:xfrm>
            <a:off x="6078600" y="34574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ектория движения спут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0" y="603576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она слышимости самолета, при сверхзвуковой скор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4707000" y="604836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ражение свечи в зеркале гиперболической форм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Эллипс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133360" y="1599840"/>
            <a:ext cx="510516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Уравнение эллипс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32148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3962520" y="2514600"/>
                <a:ext cx="12952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Rectangle 7"/>
          <p:cNvSpPr/>
          <p:nvPr/>
        </p:nvSpPr>
        <p:spPr>
          <a:xfrm>
            <a:off x="33098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6934320" y="914400"/>
            <a:ext cx="2209680" cy="11253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9"/>
          <p:cNvSpPr/>
          <p:nvPr/>
        </p:nvSpPr>
        <p:spPr>
          <a:xfrm>
            <a:off x="351936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8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2105280" cy="2095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"/>
          <p:cNvPicPr/>
          <p:nvPr/>
        </p:nvPicPr>
        <p:blipFill>
          <a:blip r:embed="rId3"/>
          <a:stretch/>
        </p:blipFill>
        <p:spPr>
          <a:xfrm>
            <a:off x="304920" y="4038480"/>
            <a:ext cx="3886200" cy="25146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3"/>
          <p:cNvSpPr/>
          <p:nvPr/>
        </p:nvSpPr>
        <p:spPr>
          <a:xfrm>
            <a:off x="266688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12" descr="http://www.college.ru/enportal/astrolite/content/chapter3/section1/paragraph2/images/0301020103.jpg"/>
          <p:cNvPicPr/>
          <p:nvPr/>
        </p:nvPicPr>
        <p:blipFill>
          <a:blip r:embed="rId4"/>
          <a:stretch/>
        </p:blipFill>
        <p:spPr>
          <a:xfrm>
            <a:off x="5791320" y="365760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4" descr="http://www.college.ru/enportal/astrolite/content/chapter3/section2/paragraph3/images/03020302.jpg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267080" y="2286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7"/>
          <p:cNvSpPr/>
          <p:nvPr/>
        </p:nvSpPr>
        <p:spPr>
          <a:xfrm>
            <a:off x="219060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6" descr="http://www.college.ru/enportal/astrolite/content/chapter3/section2/paragraph3/images/03020304.jpg"/>
          <p:cNvPicPr/>
          <p:nvPr/>
        </p:nvPicPr>
        <p:blipFill>
          <a:blip r:embed="rId2"/>
          <a:stretch/>
        </p:blipFill>
        <p:spPr>
          <a:xfrm>
            <a:off x="171360" y="227160"/>
            <a:ext cx="3733920" cy="298764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9"/>
          <p:cNvSpPr/>
          <p:nvPr/>
        </p:nvSpPr>
        <p:spPr>
          <a:xfrm>
            <a:off x="385776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Picture 8" descr="http://www.college.ru/enportal/astrolite/content/chapter4/section1/paragraph1/images/04010101.jpg"/>
          <p:cNvPicPr/>
          <p:nvPr/>
        </p:nvPicPr>
        <p:blipFill>
          <a:blip r:embed="rId3"/>
          <a:stretch/>
        </p:blipFill>
        <p:spPr>
          <a:xfrm>
            <a:off x="4267080" y="175248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1"/>
          <p:cNvSpPr/>
          <p:nvPr/>
        </p:nvSpPr>
        <p:spPr>
          <a:xfrm>
            <a:off x="26668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10" descr="http://www.college.ru/enportal/astrolite/content/chapter4/section1/paragraph1/images/04010102.jpg"/>
          <p:cNvPicPr/>
          <p:nvPr/>
        </p:nvPicPr>
        <p:blipFill>
          <a:blip r:embed="rId4"/>
          <a:stretch/>
        </p:blipFill>
        <p:spPr>
          <a:xfrm>
            <a:off x="5962680" y="22716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3"/>
          <p:cNvSpPr/>
          <p:nvPr/>
        </p:nvSpPr>
        <p:spPr>
          <a:xfrm>
            <a:off x="358632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12" descr="http://www.derunov.narod.ru/ris8.jpg"/>
          <p:cNvPicPr/>
          <p:nvPr/>
        </p:nvPicPr>
        <p:blipFill>
          <a:blip r:embed="rId5"/>
          <a:stretch/>
        </p:blipFill>
        <p:spPr>
          <a:xfrm>
            <a:off x="4538520" y="4008600"/>
            <a:ext cx="1971720" cy="1257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4" descr="http://www.derunov.narod.ru/ris9.jpg"/>
          <p:cNvPicPr/>
          <p:nvPr/>
        </p:nvPicPr>
        <p:blipFill>
          <a:blip r:embed="rId6"/>
          <a:stretch/>
        </p:blipFill>
        <p:spPr>
          <a:xfrm>
            <a:off x="7081920" y="4037040"/>
            <a:ext cx="2019240" cy="12286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7"/>
          <p:cNvSpPr/>
          <p:nvPr/>
        </p:nvSpPr>
        <p:spPr>
          <a:xfrm>
            <a:off x="4267080" y="53341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липс на переменном    напряжен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6862680" y="515160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липс плюс импульсы генератора ступене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4343400" y="2666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тур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76320" y="3946680"/>
            <a:ext cx="426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Эллипс – фигура часто встречающаяся в нашей повседневной жизни, а также эта фигура применяется в физике и астроном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Главный вопрос: </a:t>
            </a:r>
            <a:br>
              <a:rPr sz="4000"/>
            </a:b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1066680" y="2708280"/>
            <a:ext cx="6858000" cy="19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7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066"/>
                </a:solidFill>
                <a:latin typeface="Arial"/>
              </a:rPr>
              <a:t>Для чего нужно изучение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e066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066"/>
                </a:solidFill>
                <a:latin typeface="Arial"/>
              </a:rPr>
              <a:t>кривых второго порядка?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e066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066"/>
                </a:solidFill>
                <a:latin typeface="Arial"/>
              </a:rPr>
              <a:t>А нужно ли оно вообще?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e066"/>
              </a:solidFill>
              <a:latin typeface="Arial"/>
              <a:ea typeface="Arial"/>
            </a:endParaRPr>
          </a:p>
        </p:txBody>
      </p:sp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2512800"/>
            <a:ext cx="6553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Кривые второго порядка и их применение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33520" y="1143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Окружнос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5921280" y="1219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Парабол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304920" y="4038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Гипербол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200400" y="5013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Циклоид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6035760" y="4038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Эллип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219060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047760" y="4647960"/>
            <a:ext cx="380988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юбое тело в поле тяготения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игаетс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 коническому сече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476360" y="3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" descr="http://www.college.ru/mathematics/courses/stereometry/content/chapter5/section/paragraph3/images/0500301.jpg"/>
          <p:cNvPicPr/>
          <p:nvPr/>
        </p:nvPicPr>
        <p:blipFill>
          <a:blip r:embed="rId1"/>
          <a:stretch/>
        </p:blipFill>
        <p:spPr>
          <a:xfrm>
            <a:off x="4932360" y="0"/>
            <a:ext cx="3906720" cy="3906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http://www.college.ru/enportal/astrolite/content/chapter3/section1/paragraph2/images/0301020101.jpg"/>
          <p:cNvPicPr/>
          <p:nvPr/>
        </p:nvPicPr>
        <p:blipFill>
          <a:blip r:embed="rId2"/>
          <a:stretch/>
        </p:blipFill>
        <p:spPr>
          <a:xfrm>
            <a:off x="378000" y="4254480"/>
            <a:ext cx="2895480" cy="23162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8"/>
          <p:cNvSpPr/>
          <p:nvPr/>
        </p:nvSpPr>
        <p:spPr>
          <a:xfrm>
            <a:off x="26668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7" descr="http://www.college.ru/enportal/astrolite/content/chapter3/section1/paragraph2/images/03010202.jpg"/>
          <p:cNvPicPr/>
          <p:nvPr/>
        </p:nvPicPr>
        <p:blipFill>
          <a:blip r:embed="rId3"/>
          <a:stretch/>
        </p:blipFill>
        <p:spPr>
          <a:xfrm>
            <a:off x="380880" y="0"/>
            <a:ext cx="3907080" cy="390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http://www.astronaut.ru/bookcase/books/valier/foto/08.gif"/>
          <p:cNvPicPr/>
          <p:nvPr/>
        </p:nvPicPr>
        <p:blipFill>
          <a:blip r:embed="rId4"/>
          <a:stretch/>
        </p:blipFill>
        <p:spPr>
          <a:xfrm>
            <a:off x="6926400" y="4254480"/>
            <a:ext cx="1928520" cy="2316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Окружность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Уравнение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кружности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(x – a)</a:t>
            </a:r>
            <a:r>
              <a:rPr b="1" lang="en-US" sz="3600" spc="-1" strike="noStrike" baseline="30000">
                <a:solidFill>
                  <a:srgbClr val="ffcc00"/>
                </a:solidFill>
                <a:latin typeface="Arial"/>
              </a:rPr>
              <a:t>2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+ (y - b)</a:t>
            </a:r>
            <a:r>
              <a:rPr b="1" lang="en-US" sz="36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= r</a:t>
            </a:r>
            <a:r>
              <a:rPr b="1" lang="en-US" sz="36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79280" y="1168560"/>
            <a:ext cx="1362240" cy="2676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5553000" y="4748040"/>
            <a:ext cx="1914480" cy="126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Object 8"/>
          <p:cNvGraphicFramePr/>
          <p:nvPr/>
        </p:nvGraphicFramePr>
        <p:xfrm>
          <a:off x="7093080" y="1844640"/>
          <a:ext cx="1685880" cy="12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93080" y="1844640"/>
                    <a:ext cx="168588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Picture 9" descr=""/>
          <p:cNvPicPr/>
          <p:nvPr/>
        </p:nvPicPr>
        <p:blipFill>
          <a:blip r:embed="rId5"/>
          <a:srcRect l="0" t="36078" r="0" b="0"/>
          <a:stretch/>
        </p:blipFill>
        <p:spPr>
          <a:xfrm>
            <a:off x="2268360" y="4086360"/>
            <a:ext cx="243864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155268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Object 9"/>
          <p:cNvGraphicFramePr/>
          <p:nvPr/>
        </p:nvGraphicFramePr>
        <p:xfrm>
          <a:off x="3406680" y="366840"/>
          <a:ext cx="212724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6680" y="366840"/>
                    <a:ext cx="21272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0"/>
          <p:cNvGraphicFramePr/>
          <p:nvPr/>
        </p:nvGraphicFramePr>
        <p:xfrm>
          <a:off x="6184800" y="304920"/>
          <a:ext cx="2637000" cy="33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84800" y="304920"/>
                    <a:ext cx="263700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12"/>
          <p:cNvSpPr/>
          <p:nvPr/>
        </p:nvSpPr>
        <p:spPr>
          <a:xfrm>
            <a:off x="317664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Object 14"/>
          <p:cNvGraphicFramePr/>
          <p:nvPr/>
        </p:nvGraphicFramePr>
        <p:xfrm>
          <a:off x="304920" y="380880"/>
          <a:ext cx="2342880" cy="184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80880"/>
                    <a:ext cx="234288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16"/>
          <p:cNvSpPr/>
          <p:nvPr/>
        </p:nvSpPr>
        <p:spPr>
          <a:xfrm>
            <a:off x="259560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27860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28520" y="3998520"/>
            <a:ext cx="5943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Окружность и ее свойства используют в астрономии и  химии, а также многие предметы, окружающие нас имеют форму окруж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350532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ор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1"/>
          <p:cNvSpPr/>
          <p:nvPr/>
        </p:nvSpPr>
        <p:spPr>
          <a:xfrm>
            <a:off x="304920" y="22860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анета солнечной систем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6477120" y="4114800"/>
            <a:ext cx="251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рожание атмосферы,при максимальном разрешении телескопа в обсервато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http://wwwcdl.bmstu.ru/rk2/lect_12/1.jpg"/>
          <p:cNvPicPr/>
          <p:nvPr/>
        </p:nvPicPr>
        <p:blipFill>
          <a:blip r:embed="rId1"/>
          <a:stretch/>
        </p:blipFill>
        <p:spPr>
          <a:xfrm>
            <a:off x="457200" y="158760"/>
            <a:ext cx="4495680" cy="3346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http://mail.spb.fio.ru/archive/group79/c2wu10/page32_files/1-6-2.gif"/>
          <p:cNvPicPr/>
          <p:nvPr/>
        </p:nvPicPr>
        <p:blipFill>
          <a:blip r:embed="rId2"/>
          <a:stretch/>
        </p:blipFill>
        <p:spPr>
          <a:xfrm>
            <a:off x="919080" y="4344840"/>
            <a:ext cx="3571920" cy="1905120"/>
          </a:xfrm>
          <a:prstGeom prst="rect">
            <a:avLst/>
          </a:prstGeom>
          <a:ln w="9360">
            <a:solidFill>
              <a:srgbClr val="6d6d6d"/>
            </a:solidFill>
            <a:miter/>
          </a:ln>
        </p:spPr>
      </p:pic>
      <p:pic>
        <p:nvPicPr>
          <p:cNvPr id="182" name="Picture 6" descr="http://art.ioso.ru/vmuza/internet/goncharova/image005.jpg"/>
          <p:cNvPicPr/>
          <p:nvPr/>
        </p:nvPicPr>
        <p:blipFill>
          <a:blip r:embed="rId3"/>
          <a:stretch/>
        </p:blipFill>
        <p:spPr>
          <a:xfrm>
            <a:off x="5867280" y="457200"/>
            <a:ext cx="2791080" cy="2276640"/>
          </a:xfrm>
          <a:prstGeom prst="rect">
            <a:avLst/>
          </a:prstGeom>
          <a:ln w="9360">
            <a:solidFill>
              <a:srgbClr val="6d6d6d"/>
            </a:solidFill>
            <a:miter/>
          </a:ln>
        </p:spPr>
      </p:pic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0" y="3505320"/>
            <a:ext cx="54100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Эвольвентно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зубчатое колес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685800" y="624996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вижение по окруж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5867280" y="27637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цип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аботк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шн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иостанци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4876920" y="457200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Окружность также нашла применение в технике и физик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2392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Парабол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43000" y="144756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Уравнение парабол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y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= 2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57200" y="990720"/>
            <a:ext cx="1380960" cy="19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Object 6"/>
          <p:cNvGraphicFramePr/>
          <p:nvPr/>
        </p:nvGraphicFramePr>
        <p:xfrm>
          <a:off x="6804000" y="549360"/>
          <a:ext cx="1828800" cy="30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04000" y="549360"/>
                    <a:ext cx="18288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Picture 7" descr="http://stf.karelia.ru/teleconf/1999/fig2.jpg"/>
          <p:cNvPicPr/>
          <p:nvPr/>
        </p:nvPicPr>
        <p:blipFill>
          <a:blip r:embed="rId4"/>
          <a:stretch/>
        </p:blipFill>
        <p:spPr>
          <a:xfrm>
            <a:off x="457200" y="4330800"/>
            <a:ext cx="2895480" cy="201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Парабола"/>
          <p:cNvPicPr/>
          <p:nvPr/>
        </p:nvPicPr>
        <p:blipFill>
          <a:blip r:embed="rId5"/>
          <a:stretch/>
        </p:blipFill>
        <p:spPr>
          <a:xfrm>
            <a:off x="6651720" y="4551480"/>
            <a:ext cx="1981080" cy="1650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Применение свойств параболы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133720" y="1828800"/>
            <a:ext cx="5410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йства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 параболы использу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при изготовлении прожекторов, автомобильных фар, карманных фонариков, зерк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тенн 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http://club-edu.tambov.ru/vjpusk/vjp107/rabot/10/180_parabol.jpg"/>
          <p:cNvPicPr/>
          <p:nvPr/>
        </p:nvPicPr>
        <p:blipFill>
          <a:blip r:embed="rId1"/>
          <a:stretch/>
        </p:blipFill>
        <p:spPr>
          <a:xfrm>
            <a:off x="7772400" y="1905120"/>
            <a:ext cx="1104840" cy="1190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http://club-edu.tambov.ru/vjpusk/vjp107/rabot/10/5.gif"/>
          <p:cNvPicPr/>
          <p:nvPr/>
        </p:nvPicPr>
        <p:blipFill>
          <a:blip r:embed="rId2"/>
          <a:stretch/>
        </p:blipFill>
        <p:spPr>
          <a:xfrm>
            <a:off x="380880" y="1828800"/>
            <a:ext cx="1817640" cy="1238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380880" y="4145040"/>
            <a:ext cx="2286000" cy="2208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4"/>
          <a:stretch/>
        </p:blipFill>
        <p:spPr>
          <a:xfrm>
            <a:off x="3257640" y="4424400"/>
            <a:ext cx="2705040" cy="18572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3"/>
          <p:cNvSpPr/>
          <p:nvPr/>
        </p:nvSpPr>
        <p:spPr>
          <a:xfrm>
            <a:off x="343368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12" descr="http://mail.spb.fio.ru/archive/group135/c1wu4/puschka.gif"/>
          <p:cNvPicPr/>
          <p:nvPr/>
        </p:nvPicPr>
        <p:blipFill>
          <a:blip r:embed="rId5"/>
          <a:stretch/>
        </p:blipFill>
        <p:spPr>
          <a:xfrm>
            <a:off x="6553080" y="4343400"/>
            <a:ext cx="2276640" cy="1514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9:23:00Z</dcterms:created>
  <dc:creator>home</dc:creator>
  <dc:description/>
  <dc:language>en-US</dc:language>
  <cp:lastModifiedBy>AndreyK</cp:lastModifiedBy>
  <dcterms:modified xsi:type="dcterms:W3CDTF">2017-04-08T10:55:36Z</dcterms:modified>
  <cp:revision>8</cp:revision>
  <dc:subject/>
  <dc:title>Применение кривых второго порядка</dc:title>
</cp:coreProperties>
</file>