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3838-123D-468A-B7A1-C4128B31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B6DC-C711-4B56-96F6-0E8EB50C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5E13-A494-4803-B0BF-70247AFC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65C2-840A-4E33-9F3B-9F352094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7351-A3EB-4042-876E-58830489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D724-D7F3-4E1D-82D9-25FA85B7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F040-C8FD-4174-94DC-1044E210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501A-26F7-402B-BD82-32A18B6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E76-ACD0-4278-9E3F-7338F06D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712-BAE3-4248-BC3B-9766955F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BEE0-D528-4975-8994-F593E86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A451-2E30-440A-A375-7FAA3E96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9DE7-6B0C-4945-A298-CEA93DE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28D6-23F8-4608-B0AF-437C9E3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304C-7B31-4D0A-B831-DACAD2E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E085-2607-485D-AE3C-DD7670A2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1E3-D4AD-4128-9AA2-C7049AF0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9856-72F1-4839-BD0D-363423FE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51F3-CCFF-4A6A-B8CA-27D9C04C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5D7C-8099-4588-8648-0C60E8A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1BEF-52C6-4A84-B62E-ADCEF98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9547-6822-4958-8CC6-5E26524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A9E1-3C31-4347-A8FE-CE22884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6798-777F-4529-83A7-59C6657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348-6FA9-4A34-B1C1-E4394FA5F9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160-0101-4E02-BBB3-D32015CBD1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ecff"/>
                </a:solidFill>
                <a:latin typeface="Arial"/>
              </a:rPr>
              <a:t>Логарифмы в электроосвеще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24280"/>
            <a:ext cx="60199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иселёв Андре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У СОШ №1, 10 а кла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. Кулеба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349000"/>
            <a:ext cx="583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м, во сколько раз «полуваттная» (наполненная газом) лампа, температура нити накала которой 2500 градусов абсолютной шкалы испускает больше света, чем пустотная с нитью, накалённой до 2200 град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27"/>
          <p:cNvPicPr/>
          <p:nvPr/>
        </p:nvPicPr>
        <p:blipFill>
          <a:blip r:embed="rId1"/>
          <a:stretch/>
        </p:blipFill>
        <p:spPr>
          <a:xfrm>
            <a:off x="7020000" y="2276640"/>
            <a:ext cx="604800" cy="86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bulb_2"/>
          <p:cNvPicPr/>
          <p:nvPr/>
        </p:nvPicPr>
        <p:blipFill>
          <a:blip r:embed="rId2"/>
          <a:stretch/>
        </p:blipFill>
        <p:spPr>
          <a:xfrm>
            <a:off x="7020000" y="4581360"/>
            <a:ext cx="6411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значив искомое отношение через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им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3543480" y="2495520"/>
                <a:ext cx="205740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1117440" y="3903840"/>
                <a:ext cx="1727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ку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1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2052720" y="2470320"/>
                <a:ext cx="45370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2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9"/>
              <p:cNvSpPr txBox="1"/>
              <p:nvPr/>
            </p:nvSpPr>
            <p:spPr>
              <a:xfrm>
                <a:off x="1547640" y="5661000"/>
                <a:ext cx="2378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2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2052720" y="4653000"/>
                <a:ext cx="4680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лненная газом лампа испускает света в 4,6 раза больше, чем пустотная. Значит, если пустотная даёт свет в 50 свечей, то наполненная газом при тех же условиях даст 230 све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l13"/>
          <p:cNvPicPr/>
          <p:nvPr/>
        </p:nvPicPr>
        <p:blipFill>
          <a:blip r:embed="rId1"/>
          <a:stretch/>
        </p:blipFill>
        <p:spPr>
          <a:xfrm>
            <a:off x="3708360" y="3745080"/>
            <a:ext cx="182736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делаем ещё расчё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360" y="1988640"/>
            <a:ext cx="266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повышение абсолютной температуры (в процентах) необходимо для удвоения яркости ламп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038480" y="1700280"/>
            <a:ext cx="4102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им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971640" y="1859040"/>
                <a:ext cx="2592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971640" y="3535200"/>
                <a:ext cx="1584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ку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433440" y="4255920"/>
                <a:ext cx="85788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, следовательно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%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18874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конец, третье вычис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2701440"/>
            <a:ext cx="447516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– в процентах  - возрастёт яркость лампочки, если температура её нити поднимется на 1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227640" y="2565360"/>
            <a:ext cx="15843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яя с помощью логарифмов вычисление наход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3060720" y="2830680"/>
                <a:ext cx="3024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900000" y="4084560"/>
                <a:ext cx="1158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3060720" y="5156280"/>
                <a:ext cx="28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bulb_1"/>
          <p:cNvPicPr/>
          <p:nvPr/>
        </p:nvPicPr>
        <p:blipFill>
          <a:blip r:embed="rId1"/>
          <a:stretch/>
        </p:blipFill>
        <p:spPr>
          <a:xfrm>
            <a:off x="6864480" y="2924280"/>
            <a:ext cx="1269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3780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температуры на 2% приводит к увеличению яркости на 27%. Отсюда ясно, почему в технике изготовления электролампочек так заботятся о повышении температуры нити накала, дорожа каждым лишним градус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20192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8:07:16Z</dcterms:created>
  <dc:creator>K211</dc:creator>
  <dc:description/>
  <dc:language>en-US</dc:language>
  <cp:lastModifiedBy>AndreyK</cp:lastModifiedBy>
  <dcterms:modified xsi:type="dcterms:W3CDTF">2017-04-08T11:51:34Z</dcterms:modified>
  <cp:revision>61</cp:revision>
  <dc:subject/>
  <dc:title>Приложения теории графов</dc:title>
</cp:coreProperties>
</file>