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BEE9-C4F5-402C-AE51-F8A1E715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10E1-8520-4C0D-8414-ABECEA2C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2F13-8614-4DF3-9ECD-2DA234C3F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7DF8-AA77-47B7-8ADB-322A7E74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1A70-4654-4665-B31C-B3BF43D2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203F-963A-4536-AFFA-32B6AC26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A34E-4824-44F1-BC7A-9CDAD918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C0F8-5C8F-4845-B067-4F32AD9B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4892-71FA-4D77-B2A8-4E5D7B7E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3D61-4101-4B10-8F0D-AC5891CA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EEBC-FB9F-4A9F-BEA1-E8309008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2115-C33B-4874-A228-3E547205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92B9-EDD8-44A3-9902-1AF1B035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31A2-1118-4A28-A2B5-4A946EC7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D3D2-3FEB-467D-BE2C-086FC48C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EF11-11D0-4227-B882-D86DA145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514B-D10C-48A0-A6D2-234B971C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B763-25FD-4898-A39B-D1E21110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BBE8-CBAF-4C3F-918D-D2923A25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0776-C983-49C4-9C5B-C6E05961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568B-8ABE-4466-AA24-31062B81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8598-B290-4766-9ACC-42DA9898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252A-14D6-4542-99D7-9F654B50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222C-C4A5-4179-93F3-2D4F5B1D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01CB-B7A7-47DA-8F84-0CE3834CF4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3B14-D375-4AAE-AC27-921344EB0C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1692360" y="2349360"/>
            <a:ext cx="61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ff"/>
                </a:solidFill>
                <a:latin typeface="Comic Sans MS"/>
              </a:rPr>
              <a:t>Логарифмы на животноводческой ферм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5" descr="peo-farmer_dude"/>
          <p:cNvPicPr/>
          <p:nvPr/>
        </p:nvPicPr>
        <p:blipFill>
          <a:blip r:embed="rId1"/>
          <a:stretch/>
        </p:blipFill>
        <p:spPr>
          <a:xfrm>
            <a:off x="539640" y="4653000"/>
            <a:ext cx="1944720" cy="16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6"/>
          <p:cNvSpPr/>
          <p:nvPr/>
        </p:nvSpPr>
        <p:spPr>
          <a:xfrm>
            <a:off x="684360" y="260280"/>
            <a:ext cx="4105080" cy="720720"/>
          </a:xfrm>
          <a:custGeom>
            <a:avLst/>
            <a:gdLst>
              <a:gd name="textAreaLeft" fmla="*/ 1026360 w 4105080"/>
              <a:gd name="textAreaRight" fmla="*/ 3079080 w 4105080"/>
              <a:gd name="textAreaTop" fmla="*/ 0 h 720720"/>
              <a:gd name="textAreaBottom" fmla="*/ 630720 h 7207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Comic Sans MS"/>
              </a:rPr>
              <a:t>Задач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AutoShape 11"/>
          <p:cNvSpPr/>
          <p:nvPr/>
        </p:nvSpPr>
        <p:spPr>
          <a:xfrm>
            <a:off x="179280" y="476280"/>
            <a:ext cx="8640720" cy="6192720"/>
          </a:xfrm>
          <a:prstGeom prst="irregularSeal1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Количество так называемог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«поддерживающего» корма пропорциональн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наружной поверхности тела животного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Зная это, определите калорийност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поддерживающего корма для вол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весящего 420 кг, если при тех же условиях во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весом 630 кг нуждается в 13500 калория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3"/>
          <p:cNvSpPr/>
          <p:nvPr/>
        </p:nvSpPr>
        <p:spPr>
          <a:xfrm>
            <a:off x="1042920" y="1628640"/>
            <a:ext cx="71294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тобы решить эту практическую задачу из области животноводства, понадобится, кроме алгебры, привлечь на помощь и геометрию. Согласно условию задачи искомая калорийнос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порциональна поверхности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ла, т. 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6"/>
              <p:cNvSpPr txBox="1"/>
              <p:nvPr/>
            </p:nvSpPr>
            <p:spPr>
              <a:xfrm>
                <a:off x="3348000" y="4292640"/>
                <a:ext cx="2521080" cy="15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5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AutoShape 18"/>
          <p:cNvSpPr/>
          <p:nvPr/>
        </p:nvSpPr>
        <p:spPr>
          <a:xfrm>
            <a:off x="2484360" y="476280"/>
            <a:ext cx="2737080" cy="792000"/>
          </a:xfrm>
          <a:custGeom>
            <a:avLst/>
            <a:gdLst>
              <a:gd name="textAreaLeft" fmla="*/ 0 w 2737080"/>
              <a:gd name="textAreaRight" fmla="*/ 2737440 w 2737080"/>
              <a:gd name="textAreaTop" fmla="*/ 102600 h 792000"/>
              <a:gd name="textAreaBottom" fmla="*/ 6894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WordArt 19"/>
          <p:cNvSpPr txBox="1"/>
          <p:nvPr/>
        </p:nvSpPr>
        <p:spPr>
          <a:xfrm>
            <a:off x="2627280" y="549360"/>
            <a:ext cx="2521080" cy="54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шение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9" name="Picture 20" descr="ani-bull_mean"/>
          <p:cNvPicPr/>
          <p:nvPr/>
        </p:nvPicPr>
        <p:blipFill>
          <a:blip r:embed="rId1"/>
          <a:stretch/>
        </p:blipFill>
        <p:spPr>
          <a:xfrm>
            <a:off x="6300720" y="4221000"/>
            <a:ext cx="20876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1116000" y="692280"/>
            <a:ext cx="640872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де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поверхности тела вола, весящего 630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кг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 Из геометрии мы знаем, что поверхности (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) подобных тел относятся, как квадраты их линейных размеров (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)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а объёмы (и, следовательно, веса)- как кубы линейных размеров. Поэтому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5"/>
              <p:cNvSpPr txBox="1"/>
              <p:nvPr/>
            </p:nvSpPr>
            <p:spPr>
              <a:xfrm>
                <a:off x="468360" y="2421000"/>
                <a:ext cx="28908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Text Box 6"/>
          <p:cNvSpPr/>
          <p:nvPr/>
        </p:nvSpPr>
        <p:spPr>
          <a:xfrm>
            <a:off x="2484360" y="2637000"/>
            <a:ext cx="1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492360" y="2708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 значит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8"/>
              <p:cNvSpPr txBox="1"/>
              <p:nvPr/>
            </p:nvSpPr>
            <p:spPr>
              <a:xfrm>
                <a:off x="5148360" y="2349360"/>
                <a:ext cx="151128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0</m:t>
                            </m:r>
                          </m:e>
                        </m:rad>
                      </m:num>
                      <m:den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30</m:t>
                            </m:r>
                          </m:e>
                        </m:rad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Text Box 9"/>
          <p:cNvSpPr/>
          <p:nvPr/>
        </p:nvSpPr>
        <p:spPr>
          <a:xfrm>
            <a:off x="6804000" y="2637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куд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0"/>
              <p:cNvSpPr txBox="1"/>
              <p:nvPr/>
            </p:nvSpPr>
            <p:spPr>
              <a:xfrm>
                <a:off x="1258920" y="3716280"/>
                <a:ext cx="6697800" cy="20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50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2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3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420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630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,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500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7" name="Picture 13" descr="ani-bull_puffing"/>
          <p:cNvPicPr/>
          <p:nvPr/>
        </p:nvPicPr>
        <p:blipFill>
          <a:blip r:embed="rId1"/>
          <a:stretch/>
        </p:blipFill>
        <p:spPr>
          <a:xfrm>
            <a:off x="6300720" y="5013360"/>
            <a:ext cx="1800360" cy="15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4" nodeType="afterEffect" fill="hold" presetClass="entr" presetID="2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9"/>
          <p:cNvSpPr/>
          <p:nvPr/>
        </p:nvSpPr>
        <p:spPr>
          <a:xfrm>
            <a:off x="971640" y="62064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 помощью логарифмических таблиц находим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1403280" y="422100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л нуждается в 10300 калория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1692360" y="1700280"/>
            <a:ext cx="4752720" cy="1944720"/>
          </a:xfrm>
          <a:custGeom>
            <a:avLst/>
            <a:gdLst>
              <a:gd name="textAreaLeft" fmla="*/ 1085040 w 4752720"/>
              <a:gd name="textAreaRight" fmla="*/ 3667680 w 4752720"/>
              <a:gd name="textAreaTop" fmla="*/ 443880 h 1944720"/>
              <a:gd name="textAreaBottom" fmla="*/ 15008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f66"/>
                </a:solidFill>
                <a:latin typeface="Comic Sans MS"/>
              </a:rPr>
              <a:t>x</a:t>
            </a:r>
            <a:r>
              <a:rPr b="0" lang="ru-RU" sz="3600" spc="-1" strike="noStrike">
                <a:solidFill>
                  <a:srgbClr val="ffef66"/>
                </a:solidFill>
                <a:latin typeface="Comic Sans MS"/>
              </a:rPr>
              <a:t>=1030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13" descr="Cow_08"/>
          <p:cNvPicPr/>
          <p:nvPr/>
        </p:nvPicPr>
        <p:blipFill>
          <a:blip r:embed="rId1"/>
          <a:stretch/>
        </p:blipFill>
        <p:spPr>
          <a:xfrm>
            <a:off x="6732720" y="3789360"/>
            <a:ext cx="172224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11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9T10:32:03Z</dcterms:created>
  <dc:creator>Гость</dc:creator>
  <dc:description/>
  <dc:language>en-US</dc:language>
  <cp:lastModifiedBy>AndreyK</cp:lastModifiedBy>
  <dcterms:modified xsi:type="dcterms:W3CDTF">2017-03-19T21:45:49Z</dcterms:modified>
  <cp:revision>9</cp:revision>
  <dc:subject/>
  <dc:title>Слайд 1</dc:title>
</cp:coreProperties>
</file>