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DA0-A1B2-4A99-9A52-F5E2B93E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693-62F7-45EC-877B-70B3374A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783-019E-46D7-BF98-1BFA4AA3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ADB-64EF-4C00-B11F-2895F4CF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FCD-EE98-45BA-A220-F02F341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DC1-D227-4588-A4FE-E3F35427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809-8735-49AE-9A44-88340E3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25D-964A-4692-B079-1BEC4046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6FF-7051-4E80-BF66-CD6AAE2C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426-7719-4123-BBCB-40671B8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045-D3BA-4D9C-8945-67B7B66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72F-AB2D-4ABE-82DD-7AE999F3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987-8F0F-4C29-8F38-6DCF1A29E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16000" y="333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ёзды, шум и логарифм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79280" y="314172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ум и звезды объединяются здесь потому, что и громкость шума и яркость звезд оцениваются одинаковым образом — по логарифмической шк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Вертолет"/>
          <p:cNvPicPr/>
          <p:nvPr/>
        </p:nvPicPr>
        <p:blipFill>
          <a:blip r:embed="rId2"/>
          <a:stretch/>
        </p:blipFill>
        <p:spPr>
          <a:xfrm>
            <a:off x="539640" y="98100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BGPIC"/>
          <p:cNvPicPr/>
          <p:nvPr/>
        </p:nvPicPr>
        <p:blipFill>
          <a:blip r:embed="rId3"/>
          <a:stretch/>
        </p:blipFill>
        <p:spPr>
          <a:xfrm>
            <a:off x="5651640" y="3213000"/>
            <a:ext cx="307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11280" y="316800"/>
            <a:ext cx="48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Все звёзды на небе имеют разную яркость. Наиболе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ркие звёзды отнесли к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ёздам первой величины, а едва различимые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оружённым глазом – 6-ой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величины. Блеск звезды первой величины больше блеска звезды 6-ой величины ровно в ст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SPACE"/>
          <p:cNvPicPr/>
          <p:nvPr/>
        </p:nvPicPr>
        <p:blipFill>
          <a:blip r:embed="rId2"/>
          <a:stretch/>
        </p:blipFill>
        <p:spPr>
          <a:xfrm>
            <a:off x="5867280" y="47628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UBBLE"/>
          <p:cNvPicPr/>
          <p:nvPr/>
        </p:nvPicPr>
        <p:blipFill>
          <a:blip r:embed="rId3"/>
          <a:stretch/>
        </p:blipFill>
        <p:spPr>
          <a:xfrm>
            <a:off x="755640" y="4438800"/>
            <a:ext cx="2822760" cy="211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Object 15"/>
              <p:cNvSpPr txBox="1"/>
              <p:nvPr/>
            </p:nvSpPr>
            <p:spPr>
              <a:xfrm>
                <a:off x="5940360" y="3500280"/>
                <a:ext cx="2843280" cy="30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лев и тигр"/>
          <p:cNvPicPr/>
          <p:nvPr/>
        </p:nvPicPr>
        <p:blipFill>
          <a:blip r:embed="rId2"/>
          <a:stretch/>
        </p:blipFill>
        <p:spPr>
          <a:xfrm>
            <a:off x="179280" y="260280"/>
            <a:ext cx="309564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осень"/>
          <p:cNvPicPr/>
          <p:nvPr/>
        </p:nvPicPr>
        <p:blipFill>
          <a:blip r:embed="rId3"/>
          <a:stretch/>
        </p:blipFill>
        <p:spPr>
          <a:xfrm>
            <a:off x="5867280" y="260280"/>
            <a:ext cx="2963880" cy="2759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азговор"/>
          <p:cNvPicPr/>
          <p:nvPr/>
        </p:nvPicPr>
        <p:blipFill>
          <a:blip r:embed="rId4"/>
          <a:stretch/>
        </p:blipFill>
        <p:spPr>
          <a:xfrm>
            <a:off x="3324240" y="892080"/>
            <a:ext cx="2502000" cy="240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24000" y="375408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хий шелест листьев оценивается в 1 бел, громкая разговорная речь — в 6,5 бела, рычанье льва — в 8,7 бела. Отсюда следует, что по силе звука разговорная речь превышает шелест листьев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; львиное рычанье сильнее громкой разговорной реч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2=15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6732720" y="3068640"/>
                <a:ext cx="14857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6,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,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3"/>
              <p:cNvSpPr txBox="1"/>
              <p:nvPr/>
            </p:nvSpPr>
            <p:spPr>
              <a:xfrm>
                <a:off x="3492360" y="5877000"/>
                <a:ext cx="3095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,7-6,5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 flipV="1" rot="10800000">
            <a:off x="3778200" y="412560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у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ногих заводах превосходят норму: здесь бывают шумы в 10 и более бел; удары молотка в стальную плиту порождают шум в 11 бел. Шумы эти в 100 и 1000 раз сильнее допустимой нормы и в 10—100 раз громче самого шумного места Ниагарского водопада (9 бе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0b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611280" y="137268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сихофизический закон Фехн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величина ощущения пропорциональна логарифму величины раздра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55:15Z</dcterms:created>
  <dc:creator>P@\/El_</dc:creator>
  <dc:description/>
  <dc:language>en-US</dc:language>
  <cp:lastModifiedBy>AndreyK</cp:lastModifiedBy>
  <dcterms:modified xsi:type="dcterms:W3CDTF">2017-04-08T12:42:58Z</dcterms:modified>
  <cp:revision>16</cp:revision>
  <dc:subject/>
  <dc:title>Слайд 1</dc:title>
</cp:coreProperties>
</file>